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zipup202.wav" ContentType="audio/x-wav"/>
  <Override PartName="/ppt/media/jetflyby2.wav" ContentType="audio/x-wav"/>
  <Override PartName="/ppt/media/fastcar.wav" ContentType="audio/x-wav"/>
  <Override PartName="/ppt/media/gunshot.wav" ContentType="audio/x-wav"/>
  <Override PartName="/ppt/media/spacesound3.wav" ContentType="audio/x-wav"/>
  <Override PartName="/ppt/media/glass.wav" ContentType="audio/x-wav"/>
  <Override PartName="/ppt/media/hzipup01.wav" ContentType="audio/x-wav"/>
  <Override PartName="/ppt/media/highchime.wav" ContentType="audio/x-wav"/>
  <Override PartName="/ppt/media/spship04.wav" ContentType="audio/x-wav"/>
  <Override PartName="/ppt/media/caralarmoff.wav" ContentType="audio/x-wav"/>
  <Override PartName="/ppt/media/zipdn102.wav" ContentType="audio/x-wav"/>
  <Override PartName="/ppt/media/image1.gif" ContentType="image/gif"/>
  <Override PartName="/ppt/media/zapbig0g.wav" ContentType="audio/x-wav"/>
  <Override PartName="/ppt/media/laser.wav" ContentType="audio/x-wav"/>
  <Override PartName="/ppt/media/jetflyby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8236-68B4-4B37-BA11-7A80E4B71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54A-681C-47C0-9E32-3DD8E21E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AF83-1C81-48ED-A377-F21D97E2C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86ED-1B52-4DA1-9CEF-40E7C928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DF53-CA5A-43EA-9A69-D19F9C48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3959-1CEC-4F00-937D-7FBD6528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2BF3-21DC-4DE4-B4ED-931F725B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06D9-2EBF-4032-99ED-5F178728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7FC-018A-49B9-8EF6-86BB854BF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7C6-7427-4AC3-B8E9-06E09B12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88F-35BF-4282-9236-6A33DFC3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6FE8-F646-4198-A791-E920AF1F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1082-1E9B-4C5D-9038-CBAD107546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hzipup01.wav"/><Relationship Id="rId3" Type="http://schemas.openxmlformats.org/officeDocument/2006/relationships/audio" Target="../media/caralarmoff.wav"/><Relationship Id="rId4" Type="http://schemas.openxmlformats.org/officeDocument/2006/relationships/audio" Target="../media/spacesound3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hzipup01.wav"/><Relationship Id="rId2" Type="http://schemas.openxmlformats.org/officeDocument/2006/relationships/audio" Target="../media/caralarmoff.wav"/><Relationship Id="rId3" Type="http://schemas.openxmlformats.org/officeDocument/2006/relationships/audio" Target="../media/zapbig0g.wav"/><Relationship Id="rId4" Type="http://schemas.openxmlformats.org/officeDocument/2006/relationships/audio" Target="../media/highchime.wav"/><Relationship Id="rId5" Type="http://schemas.openxmlformats.org/officeDocument/2006/relationships/audio" Target="../media/glass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zipup202.wav"/><Relationship Id="rId9" Type="http://schemas.openxmlformats.org/officeDocument/2006/relationships/audio" Target="../media/zipdn102.wav"/><Relationship Id="rId10" Type="http://schemas.openxmlformats.org/officeDocument/2006/relationships/audio" Target="../media/jetflyby.wav"/><Relationship Id="rId11" Type="http://schemas.openxmlformats.org/officeDocument/2006/relationships/audio" Target="../media/zapbig0g.wav"/><Relationship Id="rId12" Type="http://schemas.openxmlformats.org/officeDocument/2006/relationships/audio" Target="../media/jetflyby.wav"/><Relationship Id="rId13" Type="http://schemas.openxmlformats.org/officeDocument/2006/relationships/audio" Target="../media/zapbig0g.wav"/><Relationship Id="rId14" Type="http://schemas.openxmlformats.org/officeDocument/2006/relationships/audio" Target="../media/jetflyby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jetflyby2.wav"/><Relationship Id="rId3" Type="http://schemas.openxmlformats.org/officeDocument/2006/relationships/audio" Target="../media/zapbig0g.wav"/><Relationship Id="rId4" Type="http://schemas.openxmlformats.org/officeDocument/2006/relationships/audio" Target="../media/jetflyby2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zipup202.wav"/><Relationship Id="rId9" Type="http://schemas.openxmlformats.org/officeDocument/2006/relationships/audio" Target="../media/zipup202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zipup202.wav"/><Relationship Id="rId13" Type="http://schemas.openxmlformats.org/officeDocument/2006/relationships/audio" Target="../media/zipdn102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gunshot.wav"/><Relationship Id="rId23" Type="http://schemas.openxmlformats.org/officeDocument/2006/relationships/audio" Target="../media/jetflyby.wav"/><Relationship Id="rId2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zipup202.wav"/><Relationship Id="rId7" Type="http://schemas.openxmlformats.org/officeDocument/2006/relationships/audio" Target="../media/zipup202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zipup202.wav"/><Relationship Id="rId11" Type="http://schemas.openxmlformats.org/officeDocument/2006/relationships/audio" Target="../media/zipdn102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jetflyby.wav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zipup202.wav"/><Relationship Id="rId11" Type="http://schemas.openxmlformats.org/officeDocument/2006/relationships/audio" Target="../media/zipdn102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fastcar.wav"/><Relationship Id="rId22" Type="http://schemas.openxmlformats.org/officeDocument/2006/relationships/audio" Target="../media/zipup202.wav"/><Relationship Id="rId23" Type="http://schemas.openxmlformats.org/officeDocument/2006/relationships/audio" Target="../media/zipup202.wav"/><Relationship Id="rId24" Type="http://schemas.openxmlformats.org/officeDocument/2006/relationships/audio" Target="../media/jetflyby.wav"/><Relationship Id="rId2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zipup202.wav"/><Relationship Id="rId9" Type="http://schemas.openxmlformats.org/officeDocument/2006/relationships/audio" Target="../media/zipdn102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fastcar.wav"/><Relationship Id="rId20" Type="http://schemas.openxmlformats.org/officeDocument/2006/relationships/audio" Target="../media/zipup202.wav"/><Relationship Id="rId21" Type="http://schemas.openxmlformats.org/officeDocument/2006/relationships/audio" Target="../media/zipup202.wav"/><Relationship Id="rId22" Type="http://schemas.openxmlformats.org/officeDocument/2006/relationships/audio" Target="../media/jetflyby.wav"/><Relationship Id="rId2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zipup202.wav"/><Relationship Id="rId9" Type="http://schemas.openxmlformats.org/officeDocument/2006/relationships/audio" Target="../media/zipdn102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fastcar.wav"/><Relationship Id="rId20" Type="http://schemas.openxmlformats.org/officeDocument/2006/relationships/audio" Target="../media/zipup202.wav"/><Relationship Id="rId21" Type="http://schemas.openxmlformats.org/officeDocument/2006/relationships/audio" Target="../media/zipup202.wav"/><Relationship Id="rId22" Type="http://schemas.openxmlformats.org/officeDocument/2006/relationships/audio" Target="../media/jetflyby.wav"/><Relationship Id="rId2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zipup202.wav"/><Relationship Id="rId11" Type="http://schemas.openxmlformats.org/officeDocument/2006/relationships/audio" Target="../media/zipdn102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fastcar.wav"/><Relationship Id="rId22" Type="http://schemas.openxmlformats.org/officeDocument/2006/relationships/audio" Target="../media/zipup202.wav"/><Relationship Id="rId23" Type="http://schemas.openxmlformats.org/officeDocument/2006/relationships/audio" Target="../media/fastcar.wav"/><Relationship Id="rId2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zipup202.wav"/><Relationship Id="rId9" Type="http://schemas.openxmlformats.org/officeDocument/2006/relationships/audio" Target="../media/zipdn102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gunshot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fastcar.wav"/><Relationship Id="rId20" Type="http://schemas.openxmlformats.org/officeDocument/2006/relationships/audio" Target="../media/zipup202.wav"/><Relationship Id="rId21" Type="http://schemas.openxmlformats.org/officeDocument/2006/relationships/audio" Target="../media/fastcar.wav"/><Relationship Id="rId2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highchime.wav"/><Relationship Id="rId3" Type="http://schemas.openxmlformats.org/officeDocument/2006/relationships/audio" Target="../media/glas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jetflyby.wav"/><Relationship Id="rId10" Type="http://schemas.openxmlformats.org/officeDocument/2006/relationships/audio" Target="../media/zipdn102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zipdn102.wav"/><Relationship Id="rId15" Type="http://schemas.openxmlformats.org/officeDocument/2006/relationships/audio" Target="../media/spship04.wav"/><Relationship Id="rId16" Type="http://schemas.openxmlformats.org/officeDocument/2006/relationships/audio" Target="../media/zipdn102.wav"/><Relationship Id="rId17" Type="http://schemas.openxmlformats.org/officeDocument/2006/relationships/audio" Target="../media/zipup202.wav"/><Relationship Id="rId18" Type="http://schemas.openxmlformats.org/officeDocument/2006/relationships/audio" Target="../media/zapbig0g.wav"/><Relationship Id="rId19" Type="http://schemas.openxmlformats.org/officeDocument/2006/relationships/audio" Target="../media/zipup202.wav"/><Relationship Id="rId20" Type="http://schemas.openxmlformats.org/officeDocument/2006/relationships/audio" Target="../media/zipdn102.wav"/><Relationship Id="rId21" Type="http://schemas.openxmlformats.org/officeDocument/2006/relationships/audio" Target="../media/zipdn102.wav"/><Relationship Id="rId22" Type="http://schemas.openxmlformats.org/officeDocument/2006/relationships/audio" Target="../media/hzipup01.wav"/><Relationship Id="rId23" Type="http://schemas.openxmlformats.org/officeDocument/2006/relationships/audio" Target="../media/hzipup01.wav"/><Relationship Id="rId24" Type="http://schemas.openxmlformats.org/officeDocument/2006/relationships/audio" Target="../media/spship04.wav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zipup202.wav"/><Relationship Id="rId11" Type="http://schemas.openxmlformats.org/officeDocument/2006/relationships/audio" Target="../media/zipdn102.wav"/><Relationship Id="rId12" Type="http://schemas.openxmlformats.org/officeDocument/2006/relationships/audio" Target="../media/zipdn102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gunshot.wav"/><Relationship Id="rId22" Type="http://schemas.openxmlformats.org/officeDocument/2006/relationships/audio" Target="../media/jetflyby.wav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zipup20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jetflyby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zipup20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jetflyby.wav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zapbig0g.wav"/><Relationship Id="rId2" Type="http://schemas.openxmlformats.org/officeDocument/2006/relationships/audio" Target="../media/highchime.wav"/><Relationship Id="rId3" Type="http://schemas.openxmlformats.org/officeDocument/2006/relationships/audio" Target="../media/glas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jetflyby.wav"/><Relationship Id="rId10" Type="http://schemas.openxmlformats.org/officeDocument/2006/relationships/audio" Target="../media/zipdn102.wav"/><Relationship Id="rId11" Type="http://schemas.openxmlformats.org/officeDocument/2006/relationships/audio" Target="../media/zapbig0g.wav"/><Relationship Id="rId12" Type="http://schemas.openxmlformats.org/officeDocument/2006/relationships/audio" Target="../media/jetflyby2.wav"/><Relationship Id="rId13" Type="http://schemas.openxmlformats.org/officeDocument/2006/relationships/audio" Target="../media/jetflyby2.wav"/><Relationship Id="rId14" Type="http://schemas.openxmlformats.org/officeDocument/2006/relationships/audio" Target="../media/zipdn102.wav"/><Relationship Id="rId15" Type="http://schemas.openxmlformats.org/officeDocument/2006/relationships/audio" Target="../media/spship04.wav"/><Relationship Id="rId16" Type="http://schemas.openxmlformats.org/officeDocument/2006/relationships/audio" Target="../media/zipdn102.wav"/><Relationship Id="rId17" Type="http://schemas.openxmlformats.org/officeDocument/2006/relationships/audio" Target="../media/zipup202.wav"/><Relationship Id="rId18" Type="http://schemas.openxmlformats.org/officeDocument/2006/relationships/audio" Target="../media/zapbig0g.wav"/><Relationship Id="rId19" Type="http://schemas.openxmlformats.org/officeDocument/2006/relationships/audio" Target="../media/zipup202.wav"/><Relationship Id="rId20" Type="http://schemas.openxmlformats.org/officeDocument/2006/relationships/audio" Target="../media/zipdn102.wav"/><Relationship Id="rId21" Type="http://schemas.openxmlformats.org/officeDocument/2006/relationships/audio" Target="../media/zipdn102.wav"/><Relationship Id="rId22" Type="http://schemas.openxmlformats.org/officeDocument/2006/relationships/audio" Target="../media/hzipup01.wav"/><Relationship Id="rId23" Type="http://schemas.openxmlformats.org/officeDocument/2006/relationships/audio" Target="../media/hzipup01.wav"/><Relationship Id="rId24" Type="http://schemas.openxmlformats.org/officeDocument/2006/relationships/audio" Target="../media/spship04.wav"/><Relationship Id="rId2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ralarmoff.wav"/><Relationship Id="rId2" Type="http://schemas.openxmlformats.org/officeDocument/2006/relationships/audio" Target="../media/zapbig0g.wav"/><Relationship Id="rId3" Type="http://schemas.openxmlformats.org/officeDocument/2006/relationships/audio" Target="../media/glass.wav"/><Relationship Id="rId4" Type="http://schemas.openxmlformats.org/officeDocument/2006/relationships/audio" Target="../media/highchime.wav"/><Relationship Id="rId5" Type="http://schemas.openxmlformats.org/officeDocument/2006/relationships/audio" Target="../media/highchime.wav"/><Relationship Id="rId6" Type="http://schemas.openxmlformats.org/officeDocument/2006/relationships/audio" Target="../media/zapbig0g.wav"/><Relationship Id="rId7" Type="http://schemas.openxmlformats.org/officeDocument/2006/relationships/audio" Target="../media/zipdn102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zipup202.wav"/><Relationship Id="rId11" Type="http://schemas.openxmlformats.org/officeDocument/2006/relationships/audio" Target="../media/zipdn102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gunshot.wav"/><Relationship Id="rId21" Type="http://schemas.openxmlformats.org/officeDocument/2006/relationships/audio" Target="../media/jetflyby.wav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zipup20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jetflyby.wav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highchime.wav"/><Relationship Id="rId3" Type="http://schemas.openxmlformats.org/officeDocument/2006/relationships/audio" Target="../media/highchime.wav"/><Relationship Id="rId4" Type="http://schemas.openxmlformats.org/officeDocument/2006/relationships/audio" Target="../media/zapbig0g.wav"/><Relationship Id="rId5" Type="http://schemas.openxmlformats.org/officeDocument/2006/relationships/audio" Target="../media/zipdn102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zipup202.wav"/><Relationship Id="rId9" Type="http://schemas.openxmlformats.org/officeDocument/2006/relationships/audio" Target="../media/zipdn102.wav"/><Relationship Id="rId10" Type="http://schemas.openxmlformats.org/officeDocument/2006/relationships/audio" Target="../media/zipdn102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gunshot.wav"/><Relationship Id="rId16" Type="http://schemas.openxmlformats.org/officeDocument/2006/relationships/audio" Target="../media/gunshot.wav"/><Relationship Id="rId17" Type="http://schemas.openxmlformats.org/officeDocument/2006/relationships/audio" Target="../media/gunshot.wav"/><Relationship Id="rId18" Type="http://schemas.openxmlformats.org/officeDocument/2006/relationships/audio" Target="../media/gunshot.wav"/><Relationship Id="rId19" Type="http://schemas.openxmlformats.org/officeDocument/2006/relationships/audio" Target="../media/gunshot.wav"/><Relationship Id="rId20" Type="http://schemas.openxmlformats.org/officeDocument/2006/relationships/audio" Target="../media/jetflyby.wav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 Sine, Cosine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25" descr="snake"/>
          <p:cNvPicPr/>
          <p:nvPr/>
        </p:nvPicPr>
        <p:blipFill>
          <a:blip r:embed="rId1"/>
          <a:stretch/>
        </p:blipFill>
        <p:spPr>
          <a:xfrm>
            <a:off x="652320" y="1341360"/>
            <a:ext cx="667728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pacesound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lations of Trigonometric Graph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of a Sine Func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5"/>
              <p:cNvSpPr txBox="1"/>
              <p:nvPr/>
            </p:nvSpPr>
            <p:spPr>
              <a:xfrm>
                <a:off x="5454720" y="1773360"/>
                <a:ext cx="194616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8" name="Group 6"/>
          <p:cNvGrpSpPr/>
          <p:nvPr/>
        </p:nvGrpSpPr>
        <p:grpSpPr>
          <a:xfrm>
            <a:off x="353880" y="1944720"/>
            <a:ext cx="4101840" cy="2982600"/>
            <a:chOff x="353880" y="1944720"/>
            <a:chExt cx="4101840" cy="2982600"/>
          </a:xfrm>
        </p:grpSpPr>
        <p:sp>
          <p:nvSpPr>
            <p:cNvPr id="379" name="Rectangle 7"/>
            <p:cNvSpPr/>
            <p:nvPr/>
          </p:nvSpPr>
          <p:spPr>
            <a:xfrm>
              <a:off x="35388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8"/>
            <p:cNvSpPr/>
            <p:nvPr/>
          </p:nvSpPr>
          <p:spPr>
            <a:xfrm>
              <a:off x="72648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9"/>
            <p:cNvSpPr/>
            <p:nvPr/>
          </p:nvSpPr>
          <p:spPr>
            <a:xfrm>
              <a:off x="109944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10"/>
            <p:cNvSpPr/>
            <p:nvPr/>
          </p:nvSpPr>
          <p:spPr>
            <a:xfrm>
              <a:off x="147240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11"/>
            <p:cNvSpPr/>
            <p:nvPr/>
          </p:nvSpPr>
          <p:spPr>
            <a:xfrm>
              <a:off x="184500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Rectangle 12"/>
            <p:cNvSpPr/>
            <p:nvPr/>
          </p:nvSpPr>
          <p:spPr>
            <a:xfrm>
              <a:off x="221832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13"/>
            <p:cNvSpPr/>
            <p:nvPr/>
          </p:nvSpPr>
          <p:spPr>
            <a:xfrm>
              <a:off x="259128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Rectangle 14"/>
            <p:cNvSpPr/>
            <p:nvPr/>
          </p:nvSpPr>
          <p:spPr>
            <a:xfrm>
              <a:off x="296388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Rectangle 15"/>
            <p:cNvSpPr/>
            <p:nvPr/>
          </p:nvSpPr>
          <p:spPr>
            <a:xfrm>
              <a:off x="333684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Rectangle 16"/>
            <p:cNvSpPr/>
            <p:nvPr/>
          </p:nvSpPr>
          <p:spPr>
            <a:xfrm>
              <a:off x="371016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Rectangle 17"/>
            <p:cNvSpPr/>
            <p:nvPr/>
          </p:nvSpPr>
          <p:spPr>
            <a:xfrm>
              <a:off x="408276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Rectangle 18"/>
            <p:cNvSpPr/>
            <p:nvPr/>
          </p:nvSpPr>
          <p:spPr>
            <a:xfrm>
              <a:off x="353880" y="1944720"/>
              <a:ext cx="4101840" cy="37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Rectangle 19"/>
            <p:cNvSpPr/>
            <p:nvPr/>
          </p:nvSpPr>
          <p:spPr>
            <a:xfrm>
              <a:off x="353880" y="2690280"/>
              <a:ext cx="4101840" cy="37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20"/>
            <p:cNvSpPr/>
            <p:nvPr/>
          </p:nvSpPr>
          <p:spPr>
            <a:xfrm>
              <a:off x="353880" y="3435840"/>
              <a:ext cx="4101840" cy="37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21"/>
            <p:cNvSpPr/>
            <p:nvPr/>
          </p:nvSpPr>
          <p:spPr>
            <a:xfrm>
              <a:off x="353880" y="4181760"/>
              <a:ext cx="4101840" cy="37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Line 22"/>
          <p:cNvSpPr/>
          <p:nvPr/>
        </p:nvSpPr>
        <p:spPr>
          <a:xfrm>
            <a:off x="189000" y="3429000"/>
            <a:ext cx="444168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23"/>
          <p:cNvSpPr/>
          <p:nvPr/>
        </p:nvSpPr>
        <p:spPr>
          <a:xfrm>
            <a:off x="735120" y="1751040"/>
            <a:ext cx="0" cy="336060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24"/>
              <p:cNvSpPr txBox="1"/>
              <p:nvPr/>
            </p:nvSpPr>
            <p:spPr>
              <a:xfrm>
                <a:off x="1320840" y="3483000"/>
                <a:ext cx="291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Object 25"/>
              <p:cNvSpPr txBox="1"/>
              <p:nvPr/>
            </p:nvSpPr>
            <p:spPr>
              <a:xfrm>
                <a:off x="2103480" y="3538440"/>
                <a:ext cx="25236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Object 26"/>
              <p:cNvSpPr txBox="1"/>
              <p:nvPr/>
            </p:nvSpPr>
            <p:spPr>
              <a:xfrm>
                <a:off x="2719440" y="3476520"/>
                <a:ext cx="4096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Object 27"/>
              <p:cNvSpPr txBox="1"/>
              <p:nvPr/>
            </p:nvSpPr>
            <p:spPr>
              <a:xfrm>
                <a:off x="3494160" y="3503520"/>
                <a:ext cx="38880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Object 28"/>
              <p:cNvSpPr txBox="1"/>
              <p:nvPr/>
            </p:nvSpPr>
            <p:spPr>
              <a:xfrm>
                <a:off x="474840" y="2519280"/>
                <a:ext cx="1555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29"/>
              <p:cNvSpPr txBox="1"/>
              <p:nvPr/>
            </p:nvSpPr>
            <p:spPr>
              <a:xfrm>
                <a:off x="298440" y="4029120"/>
                <a:ext cx="3888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2" name="Object 30"/>
              <p:cNvSpPr txBox="1"/>
              <p:nvPr/>
            </p:nvSpPr>
            <p:spPr>
              <a:xfrm>
                <a:off x="7655040" y="2749680"/>
                <a:ext cx="3096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3" name="Text Box 31"/>
          <p:cNvSpPr/>
          <p:nvPr/>
        </p:nvSpPr>
        <p:spPr>
          <a:xfrm>
            <a:off x="5369040" y="274788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Freeform 32"/>
          <p:cNvSpPr/>
          <p:nvPr/>
        </p:nvSpPr>
        <p:spPr>
          <a:xfrm>
            <a:off x="347760" y="2658960"/>
            <a:ext cx="4120920" cy="1552680"/>
          </a:xfrm>
          <a:custGeom>
            <a:avLst/>
            <a:gdLst>
              <a:gd name="textAreaLeft" fmla="*/ 0 w 4120920"/>
              <a:gd name="textAreaRight" fmla="*/ 4121280 w 4120920"/>
              <a:gd name="textAreaTop" fmla="*/ 0 h 1552680"/>
              <a:gd name="textAreaBottom" fmla="*/ 1553040 h 1552680"/>
            </a:gdLst>
            <a:ahLst/>
            <a:rect l="textAreaLeft" t="textAreaTop" r="textAreaRight" b="textAreaBottom"/>
            <a:pathLst>
              <a:path w="2596" h="978">
                <a:moveTo>
                  <a:pt x="0" y="832"/>
                </a:moveTo>
                <a:cubicBezTo>
                  <a:pt x="35" y="793"/>
                  <a:pt x="71" y="755"/>
                  <a:pt x="117" y="690"/>
                </a:cubicBezTo>
                <a:cubicBezTo>
                  <a:pt x="163" y="625"/>
                  <a:pt x="225" y="513"/>
                  <a:pt x="275" y="439"/>
                </a:cubicBezTo>
                <a:cubicBezTo>
                  <a:pt x="325" y="365"/>
                  <a:pt x="370" y="308"/>
                  <a:pt x="417" y="247"/>
                </a:cubicBezTo>
                <a:cubicBezTo>
                  <a:pt x="464" y="186"/>
                  <a:pt x="509" y="112"/>
                  <a:pt x="559" y="72"/>
                </a:cubicBezTo>
                <a:cubicBezTo>
                  <a:pt x="609" y="32"/>
                  <a:pt x="662" y="0"/>
                  <a:pt x="718" y="5"/>
                </a:cubicBezTo>
                <a:cubicBezTo>
                  <a:pt x="774" y="10"/>
                  <a:pt x="822" y="34"/>
                  <a:pt x="893" y="105"/>
                </a:cubicBezTo>
                <a:cubicBezTo>
                  <a:pt x="964" y="176"/>
                  <a:pt x="1080" y="343"/>
                  <a:pt x="1143" y="431"/>
                </a:cubicBezTo>
                <a:cubicBezTo>
                  <a:pt x="1206" y="519"/>
                  <a:pt x="1225" y="567"/>
                  <a:pt x="1269" y="631"/>
                </a:cubicBezTo>
                <a:cubicBezTo>
                  <a:pt x="1313" y="695"/>
                  <a:pt x="1366" y="765"/>
                  <a:pt x="1410" y="815"/>
                </a:cubicBezTo>
                <a:cubicBezTo>
                  <a:pt x="1454" y="865"/>
                  <a:pt x="1495" y="906"/>
                  <a:pt x="1536" y="932"/>
                </a:cubicBezTo>
                <a:cubicBezTo>
                  <a:pt x="1577" y="958"/>
                  <a:pt x="1610" y="978"/>
                  <a:pt x="1653" y="974"/>
                </a:cubicBezTo>
                <a:cubicBezTo>
                  <a:pt x="1696" y="970"/>
                  <a:pt x="1747" y="943"/>
                  <a:pt x="1794" y="907"/>
                </a:cubicBezTo>
                <a:cubicBezTo>
                  <a:pt x="1841" y="871"/>
                  <a:pt x="1887" y="818"/>
                  <a:pt x="1936" y="757"/>
                </a:cubicBezTo>
                <a:cubicBezTo>
                  <a:pt x="1985" y="696"/>
                  <a:pt x="2041" y="610"/>
                  <a:pt x="2087" y="539"/>
                </a:cubicBezTo>
                <a:cubicBezTo>
                  <a:pt x="2133" y="468"/>
                  <a:pt x="2169" y="395"/>
                  <a:pt x="2212" y="331"/>
                </a:cubicBezTo>
                <a:cubicBezTo>
                  <a:pt x="2255" y="267"/>
                  <a:pt x="2302" y="201"/>
                  <a:pt x="2345" y="155"/>
                </a:cubicBezTo>
                <a:cubicBezTo>
                  <a:pt x="2388" y="109"/>
                  <a:pt x="2429" y="76"/>
                  <a:pt x="2471" y="55"/>
                </a:cubicBezTo>
                <a:cubicBezTo>
                  <a:pt x="2513" y="34"/>
                  <a:pt x="2554" y="32"/>
                  <a:pt x="2596" y="30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33"/>
          <p:cNvSpPr/>
          <p:nvPr/>
        </p:nvSpPr>
        <p:spPr>
          <a:xfrm>
            <a:off x="5415120" y="338760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Object 34"/>
              <p:cNvSpPr txBox="1"/>
              <p:nvPr/>
            </p:nvSpPr>
            <p:spPr>
              <a:xfrm>
                <a:off x="6254640" y="3975120"/>
                <a:ext cx="7732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Object 35"/>
              <p:cNvSpPr txBox="1"/>
              <p:nvPr/>
            </p:nvSpPr>
            <p:spPr>
              <a:xfrm>
                <a:off x="7356600" y="1758960"/>
                <a:ext cx="7254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8" name="Object 36"/>
              <p:cNvSpPr txBox="1"/>
              <p:nvPr/>
            </p:nvSpPr>
            <p:spPr>
              <a:xfrm>
                <a:off x="7381800" y="1765440"/>
                <a:ext cx="687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.wav"/>
                                        </p:tgtEl>
                                      </p:cMediaNode>
                                    </p:audio>
                                    <p:animMotion origin="layout" path="M 1.94444E-006 3.17919E-006 L 1.94444E-006 -0.10706 E">
                                      <p:cBhvr>
                                        <p:cTn id="1114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jetflyby.wav"/>
                                        </p:tgtEl>
                                      </p:cMediaNode>
                                    </p:audio>
                                    <p:animMotion origin="layout" path="M 1.94444E-006 3.17919E-006 L 1.94444E-006 0.10682 E">
                                      <p:cBhvr>
                                        <p:cTn id="1125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lations of Trigonometric Graph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lation of a Sine Func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2" name="Object 5"/>
              <p:cNvSpPr txBox="1"/>
              <p:nvPr/>
            </p:nvSpPr>
            <p:spPr>
              <a:xfrm>
                <a:off x="5349960" y="1773360"/>
                <a:ext cx="16034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3" name="Group 6"/>
          <p:cNvGrpSpPr/>
          <p:nvPr/>
        </p:nvGrpSpPr>
        <p:grpSpPr>
          <a:xfrm>
            <a:off x="353880" y="1944720"/>
            <a:ext cx="4101840" cy="2982600"/>
            <a:chOff x="353880" y="1944720"/>
            <a:chExt cx="4101840" cy="2982600"/>
          </a:xfrm>
        </p:grpSpPr>
        <p:sp>
          <p:nvSpPr>
            <p:cNvPr id="414" name="Rectangle 7"/>
            <p:cNvSpPr/>
            <p:nvPr/>
          </p:nvSpPr>
          <p:spPr>
            <a:xfrm>
              <a:off x="35388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8"/>
            <p:cNvSpPr/>
            <p:nvPr/>
          </p:nvSpPr>
          <p:spPr>
            <a:xfrm>
              <a:off x="72648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9"/>
            <p:cNvSpPr/>
            <p:nvPr/>
          </p:nvSpPr>
          <p:spPr>
            <a:xfrm>
              <a:off x="109944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10"/>
            <p:cNvSpPr/>
            <p:nvPr/>
          </p:nvSpPr>
          <p:spPr>
            <a:xfrm>
              <a:off x="147240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11"/>
            <p:cNvSpPr/>
            <p:nvPr/>
          </p:nvSpPr>
          <p:spPr>
            <a:xfrm>
              <a:off x="184500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Rectangle 12"/>
            <p:cNvSpPr/>
            <p:nvPr/>
          </p:nvSpPr>
          <p:spPr>
            <a:xfrm>
              <a:off x="221832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13"/>
            <p:cNvSpPr/>
            <p:nvPr/>
          </p:nvSpPr>
          <p:spPr>
            <a:xfrm>
              <a:off x="259128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Rectangle 14"/>
            <p:cNvSpPr/>
            <p:nvPr/>
          </p:nvSpPr>
          <p:spPr>
            <a:xfrm>
              <a:off x="296388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15"/>
            <p:cNvSpPr/>
            <p:nvPr/>
          </p:nvSpPr>
          <p:spPr>
            <a:xfrm>
              <a:off x="333684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6"/>
            <p:cNvSpPr/>
            <p:nvPr/>
          </p:nvSpPr>
          <p:spPr>
            <a:xfrm>
              <a:off x="371016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Rectangle 17"/>
            <p:cNvSpPr/>
            <p:nvPr/>
          </p:nvSpPr>
          <p:spPr>
            <a:xfrm>
              <a:off x="408276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353880" y="1944720"/>
              <a:ext cx="4101840" cy="37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Rectangle 19"/>
            <p:cNvSpPr/>
            <p:nvPr/>
          </p:nvSpPr>
          <p:spPr>
            <a:xfrm>
              <a:off x="353880" y="2690280"/>
              <a:ext cx="4101840" cy="37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Rectangle 20"/>
            <p:cNvSpPr/>
            <p:nvPr/>
          </p:nvSpPr>
          <p:spPr>
            <a:xfrm>
              <a:off x="353880" y="3435840"/>
              <a:ext cx="4101840" cy="37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353880" y="4181760"/>
              <a:ext cx="4101840" cy="37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Line 22"/>
          <p:cNvSpPr/>
          <p:nvPr/>
        </p:nvSpPr>
        <p:spPr>
          <a:xfrm>
            <a:off x="189000" y="3429000"/>
            <a:ext cx="444168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23"/>
          <p:cNvSpPr/>
          <p:nvPr/>
        </p:nvSpPr>
        <p:spPr>
          <a:xfrm>
            <a:off x="735120" y="1751040"/>
            <a:ext cx="0" cy="336060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Object 24"/>
              <p:cNvSpPr txBox="1"/>
              <p:nvPr/>
            </p:nvSpPr>
            <p:spPr>
              <a:xfrm>
                <a:off x="1320840" y="3483000"/>
                <a:ext cx="291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Object 25"/>
              <p:cNvSpPr txBox="1"/>
              <p:nvPr/>
            </p:nvSpPr>
            <p:spPr>
              <a:xfrm>
                <a:off x="2103480" y="3538440"/>
                <a:ext cx="25236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Object 26"/>
              <p:cNvSpPr txBox="1"/>
              <p:nvPr/>
            </p:nvSpPr>
            <p:spPr>
              <a:xfrm>
                <a:off x="2719440" y="3476520"/>
                <a:ext cx="4096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4" name="Object 27"/>
              <p:cNvSpPr txBox="1"/>
              <p:nvPr/>
            </p:nvSpPr>
            <p:spPr>
              <a:xfrm>
                <a:off x="3494160" y="3503520"/>
                <a:ext cx="38880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5" name="Object 28"/>
              <p:cNvSpPr txBox="1"/>
              <p:nvPr/>
            </p:nvSpPr>
            <p:spPr>
              <a:xfrm>
                <a:off x="474840" y="2519280"/>
                <a:ext cx="1555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Object 29"/>
              <p:cNvSpPr txBox="1"/>
              <p:nvPr/>
            </p:nvSpPr>
            <p:spPr>
              <a:xfrm>
                <a:off x="298440" y="4029120"/>
                <a:ext cx="3888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7" name="Object 30"/>
              <p:cNvSpPr txBox="1"/>
              <p:nvPr/>
            </p:nvSpPr>
            <p:spPr>
              <a:xfrm>
                <a:off x="7653240" y="2808360"/>
                <a:ext cx="3096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8" name="Text Box 31"/>
          <p:cNvSpPr/>
          <p:nvPr/>
        </p:nvSpPr>
        <p:spPr>
          <a:xfrm>
            <a:off x="5367240" y="280656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Freeform 32"/>
          <p:cNvSpPr/>
          <p:nvPr/>
        </p:nvSpPr>
        <p:spPr>
          <a:xfrm>
            <a:off x="347760" y="2658960"/>
            <a:ext cx="4120920" cy="1552680"/>
          </a:xfrm>
          <a:custGeom>
            <a:avLst/>
            <a:gdLst>
              <a:gd name="textAreaLeft" fmla="*/ 0 w 4120920"/>
              <a:gd name="textAreaRight" fmla="*/ 4121280 w 4120920"/>
              <a:gd name="textAreaTop" fmla="*/ 0 h 1552680"/>
              <a:gd name="textAreaBottom" fmla="*/ 1553040 h 1552680"/>
            </a:gdLst>
            <a:ahLst/>
            <a:rect l="textAreaLeft" t="textAreaTop" r="textAreaRight" b="textAreaBottom"/>
            <a:pathLst>
              <a:path w="2596" h="978">
                <a:moveTo>
                  <a:pt x="0" y="832"/>
                </a:moveTo>
                <a:cubicBezTo>
                  <a:pt x="35" y="793"/>
                  <a:pt x="71" y="755"/>
                  <a:pt x="117" y="690"/>
                </a:cubicBezTo>
                <a:cubicBezTo>
                  <a:pt x="163" y="625"/>
                  <a:pt x="225" y="513"/>
                  <a:pt x="275" y="439"/>
                </a:cubicBezTo>
                <a:cubicBezTo>
                  <a:pt x="325" y="365"/>
                  <a:pt x="370" y="308"/>
                  <a:pt x="417" y="247"/>
                </a:cubicBezTo>
                <a:cubicBezTo>
                  <a:pt x="464" y="186"/>
                  <a:pt x="509" y="112"/>
                  <a:pt x="559" y="72"/>
                </a:cubicBezTo>
                <a:cubicBezTo>
                  <a:pt x="609" y="32"/>
                  <a:pt x="662" y="0"/>
                  <a:pt x="718" y="5"/>
                </a:cubicBezTo>
                <a:cubicBezTo>
                  <a:pt x="774" y="10"/>
                  <a:pt x="822" y="34"/>
                  <a:pt x="893" y="105"/>
                </a:cubicBezTo>
                <a:cubicBezTo>
                  <a:pt x="964" y="176"/>
                  <a:pt x="1080" y="343"/>
                  <a:pt x="1143" y="431"/>
                </a:cubicBezTo>
                <a:cubicBezTo>
                  <a:pt x="1206" y="519"/>
                  <a:pt x="1225" y="567"/>
                  <a:pt x="1269" y="631"/>
                </a:cubicBezTo>
                <a:cubicBezTo>
                  <a:pt x="1313" y="695"/>
                  <a:pt x="1366" y="765"/>
                  <a:pt x="1410" y="815"/>
                </a:cubicBezTo>
                <a:cubicBezTo>
                  <a:pt x="1454" y="865"/>
                  <a:pt x="1495" y="906"/>
                  <a:pt x="1536" y="932"/>
                </a:cubicBezTo>
                <a:cubicBezTo>
                  <a:pt x="1577" y="958"/>
                  <a:pt x="1610" y="978"/>
                  <a:pt x="1653" y="974"/>
                </a:cubicBezTo>
                <a:cubicBezTo>
                  <a:pt x="1696" y="970"/>
                  <a:pt x="1747" y="943"/>
                  <a:pt x="1794" y="907"/>
                </a:cubicBezTo>
                <a:cubicBezTo>
                  <a:pt x="1841" y="871"/>
                  <a:pt x="1887" y="818"/>
                  <a:pt x="1936" y="757"/>
                </a:cubicBezTo>
                <a:cubicBezTo>
                  <a:pt x="1985" y="696"/>
                  <a:pt x="2041" y="610"/>
                  <a:pt x="2087" y="539"/>
                </a:cubicBezTo>
                <a:cubicBezTo>
                  <a:pt x="2133" y="468"/>
                  <a:pt x="2169" y="395"/>
                  <a:pt x="2212" y="331"/>
                </a:cubicBezTo>
                <a:cubicBezTo>
                  <a:pt x="2255" y="267"/>
                  <a:pt x="2302" y="201"/>
                  <a:pt x="2345" y="155"/>
                </a:cubicBezTo>
                <a:cubicBezTo>
                  <a:pt x="2388" y="109"/>
                  <a:pt x="2429" y="76"/>
                  <a:pt x="2471" y="55"/>
                </a:cubicBezTo>
                <a:cubicBezTo>
                  <a:pt x="2513" y="34"/>
                  <a:pt x="2554" y="32"/>
                  <a:pt x="2596" y="30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33"/>
          <p:cNvSpPr/>
          <p:nvPr/>
        </p:nvSpPr>
        <p:spPr>
          <a:xfrm>
            <a:off x="5413320" y="344664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4"/>
              <p:cNvSpPr txBox="1"/>
              <p:nvPr/>
            </p:nvSpPr>
            <p:spPr>
              <a:xfrm>
                <a:off x="6253200" y="4033800"/>
                <a:ext cx="7729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Object 35"/>
              <p:cNvSpPr txBox="1"/>
              <p:nvPr/>
            </p:nvSpPr>
            <p:spPr>
              <a:xfrm>
                <a:off x="6832440" y="1344600"/>
                <a:ext cx="183384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3" name="Object 36"/>
              <p:cNvSpPr txBox="1"/>
              <p:nvPr/>
            </p:nvSpPr>
            <p:spPr>
              <a:xfrm>
                <a:off x="6854760" y="1363680"/>
                <a:ext cx="1833480" cy="14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Object 37"/>
              <p:cNvSpPr txBox="1"/>
              <p:nvPr/>
            </p:nvSpPr>
            <p:spPr>
              <a:xfrm>
                <a:off x="7108920" y="1879560"/>
                <a:ext cx="4204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tflyby2.wav"/>
                                        </p:tgtEl>
                                      </p:cMediaNode>
                                    </p:audio>
                                    <p:animMotion origin="layout" path="M 1.94444E-006 3.17919E-006 L -0.08021 3.17919E-006 E">
                                      <p:cBhvr>
                                        <p:cTn id="1138" dur="1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jetflyby2.wav"/>
                                        </p:tgtEl>
                                      </p:cMediaNode>
                                    </p:audio>
                                    <p:animMotion origin="layout" path="M 1.94444E-006 3.17919E-006 L 0.08177 3.17919E-006 E">
                                      <p:cBhvr>
                                        <p:cTn id="1149" dur="1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3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Vertical Transla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ph the function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Object 5"/>
              <p:cNvSpPr txBox="1"/>
              <p:nvPr/>
            </p:nvSpPr>
            <p:spPr>
              <a:xfrm>
                <a:off x="165240" y="1754280"/>
                <a:ext cx="42433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49" name="Group 6"/>
          <p:cNvGrpSpPr/>
          <p:nvPr/>
        </p:nvGrpSpPr>
        <p:grpSpPr>
          <a:xfrm>
            <a:off x="4618080" y="2606760"/>
            <a:ext cx="3125520" cy="3141360"/>
            <a:chOff x="4618080" y="2606760"/>
            <a:chExt cx="3125520" cy="3141360"/>
          </a:xfrm>
        </p:grpSpPr>
        <p:sp>
          <p:nvSpPr>
            <p:cNvPr id="450" name="Rectangle 7"/>
            <p:cNvSpPr/>
            <p:nvPr/>
          </p:nvSpPr>
          <p:spPr>
            <a:xfrm>
              <a:off x="5312520" y="260676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Rectangle 8"/>
            <p:cNvSpPr/>
            <p:nvPr/>
          </p:nvSpPr>
          <p:spPr>
            <a:xfrm>
              <a:off x="6007320" y="2606760"/>
              <a:ext cx="34704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9"/>
            <p:cNvSpPr/>
            <p:nvPr/>
          </p:nvSpPr>
          <p:spPr>
            <a:xfrm>
              <a:off x="6701760" y="260676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Rectangle 10"/>
            <p:cNvSpPr/>
            <p:nvPr/>
          </p:nvSpPr>
          <p:spPr>
            <a:xfrm>
              <a:off x="7396200" y="260676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Rectangle 11"/>
            <p:cNvSpPr/>
            <p:nvPr/>
          </p:nvSpPr>
          <p:spPr>
            <a:xfrm>
              <a:off x="4618080" y="260676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Rectangle 12"/>
            <p:cNvSpPr/>
            <p:nvPr/>
          </p:nvSpPr>
          <p:spPr>
            <a:xfrm>
              <a:off x="4618080" y="260676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Rectangle 13"/>
            <p:cNvSpPr/>
            <p:nvPr/>
          </p:nvSpPr>
          <p:spPr>
            <a:xfrm>
              <a:off x="4618080" y="295596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Rectangle 14"/>
            <p:cNvSpPr/>
            <p:nvPr/>
          </p:nvSpPr>
          <p:spPr>
            <a:xfrm>
              <a:off x="4618080" y="330444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Rectangle 15"/>
            <p:cNvSpPr/>
            <p:nvPr/>
          </p:nvSpPr>
          <p:spPr>
            <a:xfrm>
              <a:off x="4618080" y="365364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16"/>
            <p:cNvSpPr/>
            <p:nvPr/>
          </p:nvSpPr>
          <p:spPr>
            <a:xfrm>
              <a:off x="4618080" y="400284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Rectangle 17"/>
            <p:cNvSpPr/>
            <p:nvPr/>
          </p:nvSpPr>
          <p:spPr>
            <a:xfrm>
              <a:off x="4618080" y="435168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Rectangle 18"/>
            <p:cNvSpPr/>
            <p:nvPr/>
          </p:nvSpPr>
          <p:spPr>
            <a:xfrm>
              <a:off x="4618080" y="470088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Rectangle 19"/>
            <p:cNvSpPr/>
            <p:nvPr/>
          </p:nvSpPr>
          <p:spPr>
            <a:xfrm>
              <a:off x="4618080" y="505008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Rectangle 20"/>
            <p:cNvSpPr/>
            <p:nvPr/>
          </p:nvSpPr>
          <p:spPr>
            <a:xfrm>
              <a:off x="4618080" y="539892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Line 21"/>
          <p:cNvSpPr/>
          <p:nvPr/>
        </p:nvSpPr>
        <p:spPr>
          <a:xfrm>
            <a:off x="4389480" y="3298680"/>
            <a:ext cx="358596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22"/>
          <p:cNvSpPr/>
          <p:nvPr/>
        </p:nvSpPr>
        <p:spPr>
          <a:xfrm>
            <a:off x="4964040" y="238140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23"/>
              <p:cNvSpPr txBox="1"/>
              <p:nvPr/>
            </p:nvSpPr>
            <p:spPr>
              <a:xfrm>
                <a:off x="5532480" y="3349800"/>
                <a:ext cx="25380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Object 24"/>
              <p:cNvSpPr txBox="1"/>
              <p:nvPr/>
            </p:nvSpPr>
            <p:spPr>
              <a:xfrm>
                <a:off x="6243480" y="3549600"/>
                <a:ext cx="22248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Object 25"/>
              <p:cNvSpPr txBox="1"/>
              <p:nvPr/>
            </p:nvSpPr>
            <p:spPr>
              <a:xfrm>
                <a:off x="6896160" y="3346560"/>
                <a:ext cx="3664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6"/>
              <p:cNvSpPr txBox="1"/>
              <p:nvPr/>
            </p:nvSpPr>
            <p:spPr>
              <a:xfrm>
                <a:off x="7553160" y="3394080"/>
                <a:ext cx="4302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27"/>
              <p:cNvSpPr txBox="1"/>
              <p:nvPr/>
            </p:nvSpPr>
            <p:spPr>
              <a:xfrm>
                <a:off x="4545000" y="3852720"/>
                <a:ext cx="34920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28"/>
              <p:cNvSpPr txBox="1"/>
              <p:nvPr/>
            </p:nvSpPr>
            <p:spPr>
              <a:xfrm>
                <a:off x="4524480" y="5238720"/>
                <a:ext cx="3888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29"/>
              <p:cNvSpPr txBox="1"/>
              <p:nvPr/>
            </p:nvSpPr>
            <p:spPr>
              <a:xfrm>
                <a:off x="3168720" y="2711520"/>
                <a:ext cx="3348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Text Box 30"/>
          <p:cNvSpPr/>
          <p:nvPr/>
        </p:nvSpPr>
        <p:spPr>
          <a:xfrm>
            <a:off x="642960" y="271764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31"/>
          <p:cNvSpPr/>
          <p:nvPr/>
        </p:nvSpPr>
        <p:spPr>
          <a:xfrm>
            <a:off x="539640" y="481644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32"/>
              <p:cNvSpPr txBox="1"/>
              <p:nvPr/>
            </p:nvSpPr>
            <p:spPr>
              <a:xfrm>
                <a:off x="2825640" y="4802040"/>
                <a:ext cx="8622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6" name="Text Box 33"/>
          <p:cNvSpPr/>
          <p:nvPr/>
        </p:nvSpPr>
        <p:spPr>
          <a:xfrm>
            <a:off x="868320" y="341460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Translation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Oval 34"/>
          <p:cNvSpPr/>
          <p:nvPr/>
        </p:nvSpPr>
        <p:spPr>
          <a:xfrm>
            <a:off x="6261120" y="529920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Oval 35"/>
          <p:cNvSpPr/>
          <p:nvPr/>
        </p:nvSpPr>
        <p:spPr>
          <a:xfrm>
            <a:off x="4878360" y="389736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Oval 36"/>
          <p:cNvSpPr/>
          <p:nvPr/>
        </p:nvSpPr>
        <p:spPr>
          <a:xfrm>
            <a:off x="6967440" y="459252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Oval 37"/>
          <p:cNvSpPr/>
          <p:nvPr/>
        </p:nvSpPr>
        <p:spPr>
          <a:xfrm>
            <a:off x="7631280" y="388476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Oval 38"/>
          <p:cNvSpPr/>
          <p:nvPr/>
        </p:nvSpPr>
        <p:spPr>
          <a:xfrm>
            <a:off x="5576760" y="459432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9"/>
          <p:cNvSpPr/>
          <p:nvPr/>
        </p:nvSpPr>
        <p:spPr>
          <a:xfrm>
            <a:off x="816120" y="399096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down 2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Freeform 40"/>
          <p:cNvSpPr/>
          <p:nvPr/>
        </p:nvSpPr>
        <p:spPr>
          <a:xfrm>
            <a:off x="4611600" y="3941640"/>
            <a:ext cx="3882960" cy="1500480"/>
          </a:xfrm>
          <a:custGeom>
            <a:avLst/>
            <a:gdLst>
              <a:gd name="textAreaLeft" fmla="*/ 0 w 3882960"/>
              <a:gd name="textAreaRight" fmla="*/ 3883320 w 3882960"/>
              <a:gd name="textAreaTop" fmla="*/ 0 h 1500480"/>
              <a:gd name="textAreaBottom" fmla="*/ 1500840 h 1500480"/>
            </a:gdLst>
            <a:ahLst/>
            <a:rect l="textAreaLeft" t="textAreaTop" r="textAreaRight" b="textAreaBottom"/>
            <a:pathLst>
              <a:path w="2588" h="1003">
                <a:moveTo>
                  <a:pt x="0" y="193"/>
                </a:moveTo>
                <a:cubicBezTo>
                  <a:pt x="41" y="137"/>
                  <a:pt x="83" y="82"/>
                  <a:pt x="122" y="55"/>
                </a:cubicBezTo>
                <a:cubicBezTo>
                  <a:pt x="161" y="28"/>
                  <a:pt x="195" y="26"/>
                  <a:pt x="235" y="30"/>
                </a:cubicBezTo>
                <a:cubicBezTo>
                  <a:pt x="275" y="34"/>
                  <a:pt x="310" y="32"/>
                  <a:pt x="365" y="79"/>
                </a:cubicBezTo>
                <a:cubicBezTo>
                  <a:pt x="420" y="126"/>
                  <a:pt x="511" y="238"/>
                  <a:pt x="568" y="314"/>
                </a:cubicBezTo>
                <a:cubicBezTo>
                  <a:pt x="625" y="390"/>
                  <a:pt x="657" y="457"/>
                  <a:pt x="706" y="533"/>
                </a:cubicBezTo>
                <a:cubicBezTo>
                  <a:pt x="755" y="609"/>
                  <a:pt x="811" y="707"/>
                  <a:pt x="860" y="769"/>
                </a:cubicBezTo>
                <a:cubicBezTo>
                  <a:pt x="909" y="831"/>
                  <a:pt x="956" y="870"/>
                  <a:pt x="998" y="906"/>
                </a:cubicBezTo>
                <a:cubicBezTo>
                  <a:pt x="1040" y="942"/>
                  <a:pt x="1083" y="973"/>
                  <a:pt x="1111" y="988"/>
                </a:cubicBezTo>
                <a:cubicBezTo>
                  <a:pt x="1139" y="1003"/>
                  <a:pt x="1145" y="999"/>
                  <a:pt x="1168" y="996"/>
                </a:cubicBezTo>
                <a:cubicBezTo>
                  <a:pt x="1191" y="993"/>
                  <a:pt x="1215" y="990"/>
                  <a:pt x="1249" y="971"/>
                </a:cubicBezTo>
                <a:cubicBezTo>
                  <a:pt x="1283" y="952"/>
                  <a:pt x="1328" y="925"/>
                  <a:pt x="1371" y="882"/>
                </a:cubicBezTo>
                <a:cubicBezTo>
                  <a:pt x="1414" y="839"/>
                  <a:pt x="1464" y="776"/>
                  <a:pt x="1509" y="712"/>
                </a:cubicBezTo>
                <a:cubicBezTo>
                  <a:pt x="1554" y="648"/>
                  <a:pt x="1596" y="567"/>
                  <a:pt x="1639" y="501"/>
                </a:cubicBezTo>
                <a:cubicBezTo>
                  <a:pt x="1682" y="435"/>
                  <a:pt x="1727" y="373"/>
                  <a:pt x="1769" y="314"/>
                </a:cubicBezTo>
                <a:cubicBezTo>
                  <a:pt x="1811" y="255"/>
                  <a:pt x="1845" y="193"/>
                  <a:pt x="1890" y="144"/>
                </a:cubicBezTo>
                <a:cubicBezTo>
                  <a:pt x="1935" y="95"/>
                  <a:pt x="1999" y="44"/>
                  <a:pt x="2036" y="22"/>
                </a:cubicBezTo>
                <a:cubicBezTo>
                  <a:pt x="2073" y="0"/>
                  <a:pt x="2073" y="5"/>
                  <a:pt x="2109" y="14"/>
                </a:cubicBezTo>
                <a:cubicBezTo>
                  <a:pt x="2145" y="23"/>
                  <a:pt x="2206" y="40"/>
                  <a:pt x="2255" y="79"/>
                </a:cubicBezTo>
                <a:cubicBezTo>
                  <a:pt x="2304" y="118"/>
                  <a:pt x="2358" y="192"/>
                  <a:pt x="2401" y="249"/>
                </a:cubicBezTo>
                <a:cubicBezTo>
                  <a:pt x="2444" y="306"/>
                  <a:pt x="2484" y="374"/>
                  <a:pt x="2515" y="420"/>
                </a:cubicBezTo>
                <a:cubicBezTo>
                  <a:pt x="2546" y="466"/>
                  <a:pt x="2567" y="495"/>
                  <a:pt x="2588" y="525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41"/>
          <p:cNvSpPr/>
          <p:nvPr/>
        </p:nvSpPr>
        <p:spPr>
          <a:xfrm>
            <a:off x="7770960" y="3618000"/>
            <a:ext cx="12142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6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7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3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9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2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Vertical Transla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ph the function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8" name="Object 5"/>
              <p:cNvSpPr txBox="1"/>
              <p:nvPr/>
            </p:nvSpPr>
            <p:spPr>
              <a:xfrm>
                <a:off x="257040" y="1816200"/>
                <a:ext cx="373716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9" name="Group 6"/>
          <p:cNvGrpSpPr/>
          <p:nvPr/>
        </p:nvGrpSpPr>
        <p:grpSpPr>
          <a:xfrm>
            <a:off x="4602240" y="2606760"/>
            <a:ext cx="3125520" cy="3141360"/>
            <a:chOff x="4602240" y="2606760"/>
            <a:chExt cx="3125520" cy="3141360"/>
          </a:xfrm>
        </p:grpSpPr>
        <p:sp>
          <p:nvSpPr>
            <p:cNvPr id="490" name="Rectangle 7"/>
            <p:cNvSpPr/>
            <p:nvPr/>
          </p:nvSpPr>
          <p:spPr>
            <a:xfrm>
              <a:off x="5296680" y="260676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8"/>
            <p:cNvSpPr/>
            <p:nvPr/>
          </p:nvSpPr>
          <p:spPr>
            <a:xfrm>
              <a:off x="5991480" y="2606760"/>
              <a:ext cx="34704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Rectangle 9"/>
            <p:cNvSpPr/>
            <p:nvPr/>
          </p:nvSpPr>
          <p:spPr>
            <a:xfrm>
              <a:off x="6685920" y="260676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10"/>
            <p:cNvSpPr/>
            <p:nvPr/>
          </p:nvSpPr>
          <p:spPr>
            <a:xfrm>
              <a:off x="7380360" y="260676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11"/>
            <p:cNvSpPr/>
            <p:nvPr/>
          </p:nvSpPr>
          <p:spPr>
            <a:xfrm>
              <a:off x="4602240" y="260676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12"/>
            <p:cNvSpPr/>
            <p:nvPr/>
          </p:nvSpPr>
          <p:spPr>
            <a:xfrm>
              <a:off x="4602240" y="260676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13"/>
            <p:cNvSpPr/>
            <p:nvPr/>
          </p:nvSpPr>
          <p:spPr>
            <a:xfrm>
              <a:off x="4602240" y="295596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14"/>
            <p:cNvSpPr/>
            <p:nvPr/>
          </p:nvSpPr>
          <p:spPr>
            <a:xfrm>
              <a:off x="4602240" y="330444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15"/>
            <p:cNvSpPr/>
            <p:nvPr/>
          </p:nvSpPr>
          <p:spPr>
            <a:xfrm>
              <a:off x="4602240" y="365364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Rectangle 16"/>
            <p:cNvSpPr/>
            <p:nvPr/>
          </p:nvSpPr>
          <p:spPr>
            <a:xfrm>
              <a:off x="4602240" y="400284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Rectangle 17"/>
            <p:cNvSpPr/>
            <p:nvPr/>
          </p:nvSpPr>
          <p:spPr>
            <a:xfrm>
              <a:off x="4602240" y="435168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Rectangle 18"/>
            <p:cNvSpPr/>
            <p:nvPr/>
          </p:nvSpPr>
          <p:spPr>
            <a:xfrm>
              <a:off x="4602240" y="470088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Rectangle 19"/>
            <p:cNvSpPr/>
            <p:nvPr/>
          </p:nvSpPr>
          <p:spPr>
            <a:xfrm>
              <a:off x="4602240" y="505008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Rectangle 20"/>
            <p:cNvSpPr/>
            <p:nvPr/>
          </p:nvSpPr>
          <p:spPr>
            <a:xfrm>
              <a:off x="4602240" y="539892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Line 21"/>
          <p:cNvSpPr/>
          <p:nvPr/>
        </p:nvSpPr>
        <p:spPr>
          <a:xfrm>
            <a:off x="4373640" y="5389560"/>
            <a:ext cx="358596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22"/>
          <p:cNvSpPr/>
          <p:nvPr/>
        </p:nvSpPr>
        <p:spPr>
          <a:xfrm>
            <a:off x="4948200" y="238140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Object 23"/>
              <p:cNvSpPr txBox="1"/>
              <p:nvPr/>
            </p:nvSpPr>
            <p:spPr>
              <a:xfrm>
                <a:off x="5516640" y="5440320"/>
                <a:ext cx="2538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Object 24"/>
              <p:cNvSpPr txBox="1"/>
              <p:nvPr/>
            </p:nvSpPr>
            <p:spPr>
              <a:xfrm>
                <a:off x="6227640" y="5640480"/>
                <a:ext cx="22248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Object 25"/>
              <p:cNvSpPr txBox="1"/>
              <p:nvPr/>
            </p:nvSpPr>
            <p:spPr>
              <a:xfrm>
                <a:off x="6880320" y="5437080"/>
                <a:ext cx="3664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9" name="Object 26"/>
              <p:cNvSpPr txBox="1"/>
              <p:nvPr/>
            </p:nvSpPr>
            <p:spPr>
              <a:xfrm>
                <a:off x="7537320" y="5484960"/>
                <a:ext cx="43020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Object 27"/>
              <p:cNvSpPr txBox="1"/>
              <p:nvPr/>
            </p:nvSpPr>
            <p:spPr>
              <a:xfrm>
                <a:off x="4654440" y="2473200"/>
                <a:ext cx="21456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Object 28"/>
              <p:cNvSpPr txBox="1"/>
              <p:nvPr/>
            </p:nvSpPr>
            <p:spPr>
              <a:xfrm>
                <a:off x="4654440" y="3868560"/>
                <a:ext cx="21456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2" name="Object 29"/>
              <p:cNvSpPr txBox="1"/>
              <p:nvPr/>
            </p:nvSpPr>
            <p:spPr>
              <a:xfrm>
                <a:off x="3168720" y="2711520"/>
                <a:ext cx="3348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3" name="Text Box 30"/>
          <p:cNvSpPr/>
          <p:nvPr/>
        </p:nvSpPr>
        <p:spPr>
          <a:xfrm>
            <a:off x="642960" y="271764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31"/>
          <p:cNvSpPr/>
          <p:nvPr/>
        </p:nvSpPr>
        <p:spPr>
          <a:xfrm>
            <a:off x="539640" y="481644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Object 32"/>
              <p:cNvSpPr txBox="1"/>
              <p:nvPr/>
            </p:nvSpPr>
            <p:spPr>
              <a:xfrm>
                <a:off x="2825640" y="4802040"/>
                <a:ext cx="8622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Text Box 33"/>
          <p:cNvSpPr/>
          <p:nvPr/>
        </p:nvSpPr>
        <p:spPr>
          <a:xfrm>
            <a:off x="868320" y="341460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Translation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Oval 34"/>
          <p:cNvSpPr/>
          <p:nvPr/>
        </p:nvSpPr>
        <p:spPr>
          <a:xfrm>
            <a:off x="6926400" y="392112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Oval 35"/>
          <p:cNvSpPr/>
          <p:nvPr/>
        </p:nvSpPr>
        <p:spPr>
          <a:xfrm>
            <a:off x="5543640" y="251928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Oval 36"/>
          <p:cNvSpPr/>
          <p:nvPr/>
        </p:nvSpPr>
        <p:spPr>
          <a:xfrm>
            <a:off x="7632720" y="321480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37"/>
          <p:cNvSpPr/>
          <p:nvPr/>
        </p:nvSpPr>
        <p:spPr>
          <a:xfrm>
            <a:off x="6242040" y="321624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38"/>
          <p:cNvSpPr/>
          <p:nvPr/>
        </p:nvSpPr>
        <p:spPr>
          <a:xfrm>
            <a:off x="816120" y="399096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up 3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39"/>
          <p:cNvSpPr/>
          <p:nvPr/>
        </p:nvSpPr>
        <p:spPr>
          <a:xfrm>
            <a:off x="4854600" y="320832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40"/>
          <p:cNvSpPr/>
          <p:nvPr/>
        </p:nvSpPr>
        <p:spPr>
          <a:xfrm>
            <a:off x="4597560" y="2570040"/>
            <a:ext cx="3838320" cy="1465560"/>
          </a:xfrm>
          <a:custGeom>
            <a:avLst/>
            <a:gdLst>
              <a:gd name="textAreaLeft" fmla="*/ 0 w 3838320"/>
              <a:gd name="textAreaRight" fmla="*/ 3838680 w 3838320"/>
              <a:gd name="textAreaTop" fmla="*/ 0 h 1465560"/>
              <a:gd name="textAreaBottom" fmla="*/ 1465560 h 1465560"/>
            </a:gdLst>
            <a:ahLst/>
            <a:rect l="textAreaLeft" t="textAreaTop" r="textAreaRight" b="textAreaBottom"/>
            <a:pathLst>
              <a:path w="2596" h="978">
                <a:moveTo>
                  <a:pt x="0" y="832"/>
                </a:moveTo>
                <a:cubicBezTo>
                  <a:pt x="35" y="793"/>
                  <a:pt x="71" y="755"/>
                  <a:pt x="117" y="690"/>
                </a:cubicBezTo>
                <a:cubicBezTo>
                  <a:pt x="163" y="625"/>
                  <a:pt x="225" y="513"/>
                  <a:pt x="275" y="439"/>
                </a:cubicBezTo>
                <a:cubicBezTo>
                  <a:pt x="325" y="365"/>
                  <a:pt x="370" y="308"/>
                  <a:pt x="417" y="247"/>
                </a:cubicBezTo>
                <a:cubicBezTo>
                  <a:pt x="464" y="186"/>
                  <a:pt x="509" y="112"/>
                  <a:pt x="559" y="72"/>
                </a:cubicBezTo>
                <a:cubicBezTo>
                  <a:pt x="609" y="32"/>
                  <a:pt x="662" y="0"/>
                  <a:pt x="718" y="5"/>
                </a:cubicBezTo>
                <a:cubicBezTo>
                  <a:pt x="774" y="10"/>
                  <a:pt x="822" y="34"/>
                  <a:pt x="893" y="105"/>
                </a:cubicBezTo>
                <a:cubicBezTo>
                  <a:pt x="964" y="176"/>
                  <a:pt x="1080" y="343"/>
                  <a:pt x="1143" y="431"/>
                </a:cubicBezTo>
                <a:cubicBezTo>
                  <a:pt x="1206" y="519"/>
                  <a:pt x="1225" y="567"/>
                  <a:pt x="1269" y="631"/>
                </a:cubicBezTo>
                <a:cubicBezTo>
                  <a:pt x="1313" y="695"/>
                  <a:pt x="1366" y="765"/>
                  <a:pt x="1410" y="815"/>
                </a:cubicBezTo>
                <a:cubicBezTo>
                  <a:pt x="1454" y="865"/>
                  <a:pt x="1495" y="906"/>
                  <a:pt x="1536" y="932"/>
                </a:cubicBezTo>
                <a:cubicBezTo>
                  <a:pt x="1577" y="958"/>
                  <a:pt x="1610" y="978"/>
                  <a:pt x="1653" y="974"/>
                </a:cubicBezTo>
                <a:cubicBezTo>
                  <a:pt x="1696" y="970"/>
                  <a:pt x="1747" y="943"/>
                  <a:pt x="1794" y="907"/>
                </a:cubicBezTo>
                <a:cubicBezTo>
                  <a:pt x="1841" y="871"/>
                  <a:pt x="1887" y="818"/>
                  <a:pt x="1936" y="757"/>
                </a:cubicBezTo>
                <a:cubicBezTo>
                  <a:pt x="1985" y="696"/>
                  <a:pt x="2041" y="610"/>
                  <a:pt x="2087" y="539"/>
                </a:cubicBezTo>
                <a:cubicBezTo>
                  <a:pt x="2133" y="468"/>
                  <a:pt x="2169" y="395"/>
                  <a:pt x="2212" y="331"/>
                </a:cubicBezTo>
                <a:cubicBezTo>
                  <a:pt x="2255" y="267"/>
                  <a:pt x="2302" y="201"/>
                  <a:pt x="2345" y="155"/>
                </a:cubicBezTo>
                <a:cubicBezTo>
                  <a:pt x="2388" y="109"/>
                  <a:pt x="2429" y="76"/>
                  <a:pt x="2471" y="55"/>
                </a:cubicBezTo>
                <a:cubicBezTo>
                  <a:pt x="2513" y="34"/>
                  <a:pt x="2554" y="32"/>
                  <a:pt x="2596" y="30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41"/>
          <p:cNvSpPr/>
          <p:nvPr/>
        </p:nvSpPr>
        <p:spPr>
          <a:xfrm>
            <a:off x="7742160" y="1789200"/>
            <a:ext cx="121464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6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2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Horizontal Transla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ph the function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5"/>
              <p:cNvSpPr txBox="1"/>
              <p:nvPr/>
            </p:nvSpPr>
            <p:spPr>
              <a:xfrm>
                <a:off x="339840" y="1782720"/>
                <a:ext cx="44337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29" name="Group 6"/>
          <p:cNvGrpSpPr/>
          <p:nvPr/>
        </p:nvGrpSpPr>
        <p:grpSpPr>
          <a:xfrm>
            <a:off x="4754520" y="2759040"/>
            <a:ext cx="3125520" cy="3141360"/>
            <a:chOff x="4754520" y="2759040"/>
            <a:chExt cx="3125520" cy="3141360"/>
          </a:xfrm>
        </p:grpSpPr>
        <p:sp>
          <p:nvSpPr>
            <p:cNvPr id="530" name="Rectangle 7"/>
            <p:cNvSpPr/>
            <p:nvPr/>
          </p:nvSpPr>
          <p:spPr>
            <a:xfrm>
              <a:off x="544896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8"/>
            <p:cNvSpPr/>
            <p:nvPr/>
          </p:nvSpPr>
          <p:spPr>
            <a:xfrm>
              <a:off x="6143760" y="2759040"/>
              <a:ext cx="34704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Rectangle 9"/>
            <p:cNvSpPr/>
            <p:nvPr/>
          </p:nvSpPr>
          <p:spPr>
            <a:xfrm>
              <a:off x="683820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Rectangle 10"/>
            <p:cNvSpPr/>
            <p:nvPr/>
          </p:nvSpPr>
          <p:spPr>
            <a:xfrm>
              <a:off x="753264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11"/>
            <p:cNvSpPr/>
            <p:nvPr/>
          </p:nvSpPr>
          <p:spPr>
            <a:xfrm>
              <a:off x="475452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12"/>
            <p:cNvSpPr/>
            <p:nvPr/>
          </p:nvSpPr>
          <p:spPr>
            <a:xfrm>
              <a:off x="4754520" y="275904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Rectangle 13"/>
            <p:cNvSpPr/>
            <p:nvPr/>
          </p:nvSpPr>
          <p:spPr>
            <a:xfrm>
              <a:off x="4754520" y="310824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14"/>
            <p:cNvSpPr/>
            <p:nvPr/>
          </p:nvSpPr>
          <p:spPr>
            <a:xfrm>
              <a:off x="4754520" y="345672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15"/>
            <p:cNvSpPr/>
            <p:nvPr/>
          </p:nvSpPr>
          <p:spPr>
            <a:xfrm>
              <a:off x="4754520" y="380592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16"/>
            <p:cNvSpPr/>
            <p:nvPr/>
          </p:nvSpPr>
          <p:spPr>
            <a:xfrm>
              <a:off x="4754520" y="415512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17"/>
            <p:cNvSpPr/>
            <p:nvPr/>
          </p:nvSpPr>
          <p:spPr>
            <a:xfrm>
              <a:off x="4754520" y="450396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18"/>
            <p:cNvSpPr/>
            <p:nvPr/>
          </p:nvSpPr>
          <p:spPr>
            <a:xfrm>
              <a:off x="4754520" y="485316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19"/>
            <p:cNvSpPr/>
            <p:nvPr/>
          </p:nvSpPr>
          <p:spPr>
            <a:xfrm>
              <a:off x="4754520" y="520236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Rectangle 20"/>
            <p:cNvSpPr/>
            <p:nvPr/>
          </p:nvSpPr>
          <p:spPr>
            <a:xfrm>
              <a:off x="4754520" y="555120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Line 21"/>
          <p:cNvSpPr/>
          <p:nvPr/>
        </p:nvSpPr>
        <p:spPr>
          <a:xfrm>
            <a:off x="5100480" y="253368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22"/>
              <p:cNvSpPr txBox="1"/>
              <p:nvPr/>
            </p:nvSpPr>
            <p:spPr>
              <a:xfrm>
                <a:off x="5668920" y="4560840"/>
                <a:ext cx="2541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23"/>
              <p:cNvSpPr txBox="1"/>
              <p:nvPr/>
            </p:nvSpPr>
            <p:spPr>
              <a:xfrm>
                <a:off x="6380280" y="4761000"/>
                <a:ext cx="22212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24"/>
              <p:cNvSpPr txBox="1"/>
              <p:nvPr/>
            </p:nvSpPr>
            <p:spPr>
              <a:xfrm>
                <a:off x="7032600" y="4557600"/>
                <a:ext cx="3668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25"/>
              <p:cNvSpPr txBox="1"/>
              <p:nvPr/>
            </p:nvSpPr>
            <p:spPr>
              <a:xfrm>
                <a:off x="4865760" y="3670200"/>
                <a:ext cx="1555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9" name="Object 26"/>
              <p:cNvSpPr txBox="1"/>
              <p:nvPr/>
            </p:nvSpPr>
            <p:spPr>
              <a:xfrm>
                <a:off x="4695840" y="5065560"/>
                <a:ext cx="35100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Oval 27"/>
          <p:cNvSpPr/>
          <p:nvPr/>
        </p:nvSpPr>
        <p:spPr>
          <a:xfrm>
            <a:off x="7093080" y="513252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Oval 28"/>
          <p:cNvSpPr/>
          <p:nvPr/>
        </p:nvSpPr>
        <p:spPr>
          <a:xfrm>
            <a:off x="5710320" y="373068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29"/>
          <p:cNvSpPr/>
          <p:nvPr/>
        </p:nvSpPr>
        <p:spPr>
          <a:xfrm>
            <a:off x="7799400" y="442584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30"/>
          <p:cNvSpPr/>
          <p:nvPr/>
        </p:nvSpPr>
        <p:spPr>
          <a:xfrm>
            <a:off x="6408720" y="442764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31"/>
          <p:cNvSpPr/>
          <p:nvPr/>
        </p:nvSpPr>
        <p:spPr>
          <a:xfrm>
            <a:off x="5021280" y="441972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reeform 32"/>
          <p:cNvSpPr/>
          <p:nvPr/>
        </p:nvSpPr>
        <p:spPr>
          <a:xfrm>
            <a:off x="2035080" y="3719520"/>
            <a:ext cx="9309240" cy="1571760"/>
          </a:xfrm>
          <a:custGeom>
            <a:avLst/>
            <a:gdLst>
              <a:gd name="textAreaLeft" fmla="*/ 0 w 9309240"/>
              <a:gd name="textAreaRight" fmla="*/ 9309600 w 9309240"/>
              <a:gd name="textAreaTop" fmla="*/ 0 h 1571760"/>
              <a:gd name="textAreaBottom" fmla="*/ 1572120 h 1571760"/>
            </a:gdLst>
            <a:ahLst/>
            <a:rect l="textAreaLeft" t="textAreaTop" r="textAreaRight" b="textAreaBottom"/>
            <a:pathLst>
              <a:path w="5864" h="1018">
                <a:moveTo>
                  <a:pt x="0" y="815"/>
                </a:moveTo>
                <a:cubicBezTo>
                  <a:pt x="195" y="407"/>
                  <a:pt x="391" y="0"/>
                  <a:pt x="645" y="24"/>
                </a:cubicBezTo>
                <a:cubicBezTo>
                  <a:pt x="899" y="48"/>
                  <a:pt x="1234" y="957"/>
                  <a:pt x="1522" y="961"/>
                </a:cubicBezTo>
                <a:cubicBezTo>
                  <a:pt x="1810" y="965"/>
                  <a:pt x="2087" y="45"/>
                  <a:pt x="2373" y="49"/>
                </a:cubicBezTo>
                <a:cubicBezTo>
                  <a:pt x="2659" y="53"/>
                  <a:pt x="2953" y="984"/>
                  <a:pt x="3241" y="986"/>
                </a:cubicBezTo>
                <a:cubicBezTo>
                  <a:pt x="3529" y="988"/>
                  <a:pt x="3813" y="56"/>
                  <a:pt x="4101" y="58"/>
                </a:cubicBezTo>
                <a:cubicBezTo>
                  <a:pt x="4389" y="60"/>
                  <a:pt x="4710" y="972"/>
                  <a:pt x="4969" y="995"/>
                </a:cubicBezTo>
                <a:cubicBezTo>
                  <a:pt x="5228" y="1018"/>
                  <a:pt x="5508" y="345"/>
                  <a:pt x="5657" y="196"/>
                </a:cubicBezTo>
                <a:cubicBezTo>
                  <a:pt x="5806" y="47"/>
                  <a:pt x="5835" y="74"/>
                  <a:pt x="5864" y="101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3"/>
          <p:cNvSpPr/>
          <p:nvPr/>
        </p:nvSpPr>
        <p:spPr>
          <a:xfrm>
            <a:off x="7902720" y="2962440"/>
            <a:ext cx="1350720" cy="142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34"/>
          <p:cNvSpPr/>
          <p:nvPr/>
        </p:nvSpPr>
        <p:spPr>
          <a:xfrm>
            <a:off x="3387600" y="460224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35"/>
          <p:cNvSpPr/>
          <p:nvPr/>
        </p:nvSpPr>
        <p:spPr>
          <a:xfrm>
            <a:off x="1847880" y="3565440"/>
            <a:ext cx="2874960" cy="156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6"/>
          <p:cNvSpPr/>
          <p:nvPr/>
        </p:nvSpPr>
        <p:spPr>
          <a:xfrm>
            <a:off x="7894800" y="3456000"/>
            <a:ext cx="196056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7"/>
          <p:cNvSpPr/>
          <p:nvPr/>
        </p:nvSpPr>
        <p:spPr>
          <a:xfrm>
            <a:off x="795240" y="287028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8"/>
          <p:cNvSpPr/>
          <p:nvPr/>
        </p:nvSpPr>
        <p:spPr>
          <a:xfrm>
            <a:off x="749160" y="370692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9"/>
          <p:cNvSpPr/>
          <p:nvPr/>
        </p:nvSpPr>
        <p:spPr>
          <a:xfrm>
            <a:off x="933480" y="464040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Translation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40"/>
          <p:cNvSpPr/>
          <p:nvPr/>
        </p:nvSpPr>
        <p:spPr>
          <a:xfrm>
            <a:off x="880920" y="521640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right </a:t>
            </a:r>
            <a:r>
              <a:rPr b="0" lang="en-US" sz="3400" spc="-1" strike="noStrike">
                <a:solidFill>
                  <a:srgbClr val="663300"/>
                </a:solidFill>
                <a:latin typeface="Symbol"/>
                <a:ea typeface="Symbol"/>
              </a:rPr>
              <a:t>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41"/>
          <p:cNvSpPr/>
          <p:nvPr/>
        </p:nvSpPr>
        <p:spPr>
          <a:xfrm>
            <a:off x="3379680" y="298296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42"/>
          <p:cNvSpPr/>
          <p:nvPr/>
        </p:nvSpPr>
        <p:spPr>
          <a:xfrm>
            <a:off x="7896240" y="463860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43"/>
              <p:cNvSpPr txBox="1"/>
              <p:nvPr/>
            </p:nvSpPr>
            <p:spPr>
              <a:xfrm>
                <a:off x="7689960" y="4637160"/>
                <a:ext cx="3873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7" name="Line 44"/>
          <p:cNvSpPr/>
          <p:nvPr/>
        </p:nvSpPr>
        <p:spPr>
          <a:xfrm>
            <a:off x="4525920" y="4510080"/>
            <a:ext cx="3586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45"/>
              <p:cNvSpPr txBox="1"/>
              <p:nvPr/>
            </p:nvSpPr>
            <p:spPr>
              <a:xfrm>
                <a:off x="3321000" y="2863800"/>
                <a:ext cx="3351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9" name="Object 46"/>
              <p:cNvSpPr txBox="1"/>
              <p:nvPr/>
            </p:nvSpPr>
            <p:spPr>
              <a:xfrm>
                <a:off x="3035160" y="3692520"/>
                <a:ext cx="8622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4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5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6" dur="8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4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7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jetflyby.wav"/>
                                        </p:tgtEl>
                                      </p:cMediaNode>
                                    </p:audio>
                                    <p:animMotion origin="layout" path="M 2.77778E-006 2.02312E-006 L 0.14687 2.02312E-006 E">
                                      <p:cBhvr>
                                        <p:cTn id="1536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Horizontal Transla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ph the function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5"/>
              <p:cNvSpPr txBox="1"/>
              <p:nvPr/>
            </p:nvSpPr>
            <p:spPr>
              <a:xfrm>
                <a:off x="192240" y="1743120"/>
                <a:ext cx="473544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74" name="Group 6"/>
          <p:cNvGrpSpPr/>
          <p:nvPr/>
        </p:nvGrpSpPr>
        <p:grpSpPr>
          <a:xfrm>
            <a:off x="4754520" y="2759040"/>
            <a:ext cx="3125520" cy="3141360"/>
            <a:chOff x="4754520" y="2759040"/>
            <a:chExt cx="3125520" cy="3141360"/>
          </a:xfrm>
        </p:grpSpPr>
        <p:sp>
          <p:nvSpPr>
            <p:cNvPr id="575" name="Rectangle 7"/>
            <p:cNvSpPr/>
            <p:nvPr/>
          </p:nvSpPr>
          <p:spPr>
            <a:xfrm>
              <a:off x="544896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Rectangle 8"/>
            <p:cNvSpPr/>
            <p:nvPr/>
          </p:nvSpPr>
          <p:spPr>
            <a:xfrm>
              <a:off x="6143760" y="2759040"/>
              <a:ext cx="34704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Rectangle 9"/>
            <p:cNvSpPr/>
            <p:nvPr/>
          </p:nvSpPr>
          <p:spPr>
            <a:xfrm>
              <a:off x="683820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10"/>
            <p:cNvSpPr/>
            <p:nvPr/>
          </p:nvSpPr>
          <p:spPr>
            <a:xfrm>
              <a:off x="753264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11"/>
            <p:cNvSpPr/>
            <p:nvPr/>
          </p:nvSpPr>
          <p:spPr>
            <a:xfrm>
              <a:off x="475452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2"/>
            <p:cNvSpPr/>
            <p:nvPr/>
          </p:nvSpPr>
          <p:spPr>
            <a:xfrm>
              <a:off x="4754520" y="275904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Rectangle 13"/>
            <p:cNvSpPr/>
            <p:nvPr/>
          </p:nvSpPr>
          <p:spPr>
            <a:xfrm>
              <a:off x="4754520" y="310824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Rectangle 14"/>
            <p:cNvSpPr/>
            <p:nvPr/>
          </p:nvSpPr>
          <p:spPr>
            <a:xfrm>
              <a:off x="4754520" y="345672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Rectangle 15"/>
            <p:cNvSpPr/>
            <p:nvPr/>
          </p:nvSpPr>
          <p:spPr>
            <a:xfrm>
              <a:off x="4754520" y="380592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Rectangle 16"/>
            <p:cNvSpPr/>
            <p:nvPr/>
          </p:nvSpPr>
          <p:spPr>
            <a:xfrm>
              <a:off x="4754520" y="415512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Rectangle 17"/>
            <p:cNvSpPr/>
            <p:nvPr/>
          </p:nvSpPr>
          <p:spPr>
            <a:xfrm>
              <a:off x="4754520" y="450396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18"/>
            <p:cNvSpPr/>
            <p:nvPr/>
          </p:nvSpPr>
          <p:spPr>
            <a:xfrm>
              <a:off x="4754520" y="485316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Rectangle 19"/>
            <p:cNvSpPr/>
            <p:nvPr/>
          </p:nvSpPr>
          <p:spPr>
            <a:xfrm>
              <a:off x="4754520" y="520236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Rectangle 20"/>
            <p:cNvSpPr/>
            <p:nvPr/>
          </p:nvSpPr>
          <p:spPr>
            <a:xfrm>
              <a:off x="4754520" y="555120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Line 21"/>
          <p:cNvSpPr/>
          <p:nvPr/>
        </p:nvSpPr>
        <p:spPr>
          <a:xfrm>
            <a:off x="5100480" y="253368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22"/>
              <p:cNvSpPr txBox="1"/>
              <p:nvPr/>
            </p:nvSpPr>
            <p:spPr>
              <a:xfrm>
                <a:off x="5668920" y="4560840"/>
                <a:ext cx="2541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23"/>
              <p:cNvSpPr txBox="1"/>
              <p:nvPr/>
            </p:nvSpPr>
            <p:spPr>
              <a:xfrm>
                <a:off x="6380280" y="4761000"/>
                <a:ext cx="22212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24"/>
              <p:cNvSpPr txBox="1"/>
              <p:nvPr/>
            </p:nvSpPr>
            <p:spPr>
              <a:xfrm>
                <a:off x="7032600" y="4557600"/>
                <a:ext cx="3668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3" name="Object 25"/>
              <p:cNvSpPr txBox="1"/>
              <p:nvPr/>
            </p:nvSpPr>
            <p:spPr>
              <a:xfrm>
                <a:off x="4865760" y="3670200"/>
                <a:ext cx="1555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4" name="Object 26"/>
              <p:cNvSpPr txBox="1"/>
              <p:nvPr/>
            </p:nvSpPr>
            <p:spPr>
              <a:xfrm>
                <a:off x="4695840" y="5065560"/>
                <a:ext cx="35100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Oval 27"/>
          <p:cNvSpPr/>
          <p:nvPr/>
        </p:nvSpPr>
        <p:spPr>
          <a:xfrm>
            <a:off x="6396120" y="511956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Oval 28"/>
          <p:cNvSpPr/>
          <p:nvPr/>
        </p:nvSpPr>
        <p:spPr>
          <a:xfrm>
            <a:off x="5013360" y="371808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Oval 29"/>
          <p:cNvSpPr/>
          <p:nvPr/>
        </p:nvSpPr>
        <p:spPr>
          <a:xfrm>
            <a:off x="7102440" y="441324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30"/>
          <p:cNvSpPr/>
          <p:nvPr/>
        </p:nvSpPr>
        <p:spPr>
          <a:xfrm>
            <a:off x="5711760" y="4414680"/>
            <a:ext cx="179280" cy="182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Oval 31"/>
          <p:cNvSpPr/>
          <p:nvPr/>
        </p:nvSpPr>
        <p:spPr>
          <a:xfrm>
            <a:off x="7791480" y="371016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Freeform 32"/>
          <p:cNvSpPr/>
          <p:nvPr/>
        </p:nvSpPr>
        <p:spPr>
          <a:xfrm>
            <a:off x="1366920" y="3703680"/>
            <a:ext cx="9308880" cy="1571760"/>
          </a:xfrm>
          <a:custGeom>
            <a:avLst/>
            <a:gdLst>
              <a:gd name="textAreaLeft" fmla="*/ 0 w 9308880"/>
              <a:gd name="textAreaRight" fmla="*/ 9309240 w 9308880"/>
              <a:gd name="textAreaTop" fmla="*/ 0 h 1571760"/>
              <a:gd name="textAreaBottom" fmla="*/ 1572120 h 1571760"/>
            </a:gdLst>
            <a:ahLst/>
            <a:rect l="textAreaLeft" t="textAreaTop" r="textAreaRight" b="textAreaBottom"/>
            <a:pathLst>
              <a:path w="5864" h="1018">
                <a:moveTo>
                  <a:pt x="0" y="815"/>
                </a:moveTo>
                <a:cubicBezTo>
                  <a:pt x="195" y="407"/>
                  <a:pt x="391" y="0"/>
                  <a:pt x="645" y="24"/>
                </a:cubicBezTo>
                <a:cubicBezTo>
                  <a:pt x="899" y="48"/>
                  <a:pt x="1234" y="957"/>
                  <a:pt x="1522" y="961"/>
                </a:cubicBezTo>
                <a:cubicBezTo>
                  <a:pt x="1810" y="965"/>
                  <a:pt x="2087" y="45"/>
                  <a:pt x="2373" y="49"/>
                </a:cubicBezTo>
                <a:cubicBezTo>
                  <a:pt x="2659" y="53"/>
                  <a:pt x="2953" y="984"/>
                  <a:pt x="3241" y="986"/>
                </a:cubicBezTo>
                <a:cubicBezTo>
                  <a:pt x="3529" y="988"/>
                  <a:pt x="3813" y="56"/>
                  <a:pt x="4101" y="58"/>
                </a:cubicBezTo>
                <a:cubicBezTo>
                  <a:pt x="4389" y="60"/>
                  <a:pt x="4710" y="972"/>
                  <a:pt x="4969" y="995"/>
                </a:cubicBezTo>
                <a:cubicBezTo>
                  <a:pt x="5228" y="1018"/>
                  <a:pt x="5508" y="345"/>
                  <a:pt x="5657" y="196"/>
                </a:cubicBezTo>
                <a:cubicBezTo>
                  <a:pt x="5806" y="47"/>
                  <a:pt x="5835" y="74"/>
                  <a:pt x="5864" y="101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3"/>
          <p:cNvSpPr/>
          <p:nvPr/>
        </p:nvSpPr>
        <p:spPr>
          <a:xfrm>
            <a:off x="7902720" y="2962440"/>
            <a:ext cx="1350720" cy="142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34"/>
          <p:cNvSpPr/>
          <p:nvPr/>
        </p:nvSpPr>
        <p:spPr>
          <a:xfrm>
            <a:off x="3387600" y="460224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35"/>
          <p:cNvSpPr/>
          <p:nvPr/>
        </p:nvSpPr>
        <p:spPr>
          <a:xfrm>
            <a:off x="-38160" y="3565440"/>
            <a:ext cx="4761000" cy="19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36"/>
          <p:cNvSpPr/>
          <p:nvPr/>
        </p:nvSpPr>
        <p:spPr>
          <a:xfrm>
            <a:off x="7894800" y="3456000"/>
            <a:ext cx="196056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37"/>
          <p:cNvSpPr/>
          <p:nvPr/>
        </p:nvSpPr>
        <p:spPr>
          <a:xfrm>
            <a:off x="795240" y="287028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38"/>
          <p:cNvSpPr/>
          <p:nvPr/>
        </p:nvSpPr>
        <p:spPr>
          <a:xfrm>
            <a:off x="749160" y="370692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39"/>
          <p:cNvSpPr/>
          <p:nvPr/>
        </p:nvSpPr>
        <p:spPr>
          <a:xfrm>
            <a:off x="933480" y="464040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Translation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40"/>
          <p:cNvSpPr/>
          <p:nvPr/>
        </p:nvSpPr>
        <p:spPr>
          <a:xfrm>
            <a:off x="880920" y="521640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left </a:t>
            </a:r>
            <a:r>
              <a:rPr b="0" lang="en-US" sz="3400" spc="-1" strike="noStrike">
                <a:solidFill>
                  <a:srgbClr val="663300"/>
                </a:solidFill>
                <a:latin typeface="Symbol"/>
                <a:ea typeface="Symbol"/>
              </a:rPr>
              <a:t>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41"/>
          <p:cNvSpPr/>
          <p:nvPr/>
        </p:nvSpPr>
        <p:spPr>
          <a:xfrm>
            <a:off x="3379680" y="298296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42"/>
          <p:cNvSpPr/>
          <p:nvPr/>
        </p:nvSpPr>
        <p:spPr>
          <a:xfrm>
            <a:off x="7896240" y="463860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1" name="Object 43"/>
              <p:cNvSpPr txBox="1"/>
              <p:nvPr/>
            </p:nvSpPr>
            <p:spPr>
              <a:xfrm>
                <a:off x="7689960" y="4637160"/>
                <a:ext cx="3873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2" name="Line 44"/>
          <p:cNvSpPr/>
          <p:nvPr/>
        </p:nvSpPr>
        <p:spPr>
          <a:xfrm>
            <a:off x="4525920" y="4510080"/>
            <a:ext cx="3586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Object 45"/>
              <p:cNvSpPr txBox="1"/>
              <p:nvPr/>
            </p:nvSpPr>
            <p:spPr>
              <a:xfrm>
                <a:off x="3321000" y="2863800"/>
                <a:ext cx="3351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46"/>
              <p:cNvSpPr txBox="1"/>
              <p:nvPr/>
            </p:nvSpPr>
            <p:spPr>
              <a:xfrm>
                <a:off x="3035160" y="3692520"/>
                <a:ext cx="8622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8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1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4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9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7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fill="hold">
                      <p:stCondLst>
                        <p:cond delay="indefinite"/>
                      </p:stCondLst>
                      <p:childTnLst>
                        <p:par>
                          <p:cTn id="1651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.wav"/>
                                        </p:tgtEl>
                                      </p:cMediaNode>
                                    </p:audio>
                                    <p:animMotion origin="layout" path="M 3.05556E-006 1.7341E-007 L -0.15799 1.7341E-007 E">
                                      <p:cBhvr>
                                        <p:cTn id="1673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3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Horizontal Transla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ph the function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5"/>
              <p:cNvSpPr txBox="1"/>
              <p:nvPr/>
            </p:nvSpPr>
            <p:spPr>
              <a:xfrm>
                <a:off x="372960" y="1550880"/>
                <a:ext cx="427032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19" name="Group 6"/>
          <p:cNvGrpSpPr/>
          <p:nvPr/>
        </p:nvGrpSpPr>
        <p:grpSpPr>
          <a:xfrm>
            <a:off x="4754520" y="2759040"/>
            <a:ext cx="3125520" cy="3141360"/>
            <a:chOff x="4754520" y="2759040"/>
            <a:chExt cx="3125520" cy="3141360"/>
          </a:xfrm>
        </p:grpSpPr>
        <p:sp>
          <p:nvSpPr>
            <p:cNvPr id="620" name="Rectangle 7"/>
            <p:cNvSpPr/>
            <p:nvPr/>
          </p:nvSpPr>
          <p:spPr>
            <a:xfrm>
              <a:off x="544896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8"/>
            <p:cNvSpPr/>
            <p:nvPr/>
          </p:nvSpPr>
          <p:spPr>
            <a:xfrm>
              <a:off x="6143760" y="2759040"/>
              <a:ext cx="34704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9"/>
            <p:cNvSpPr/>
            <p:nvPr/>
          </p:nvSpPr>
          <p:spPr>
            <a:xfrm>
              <a:off x="683820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10"/>
            <p:cNvSpPr/>
            <p:nvPr/>
          </p:nvSpPr>
          <p:spPr>
            <a:xfrm>
              <a:off x="753264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11"/>
            <p:cNvSpPr/>
            <p:nvPr/>
          </p:nvSpPr>
          <p:spPr>
            <a:xfrm>
              <a:off x="4754520" y="275904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12"/>
            <p:cNvSpPr/>
            <p:nvPr/>
          </p:nvSpPr>
          <p:spPr>
            <a:xfrm>
              <a:off x="4754520" y="275904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13"/>
            <p:cNvSpPr/>
            <p:nvPr/>
          </p:nvSpPr>
          <p:spPr>
            <a:xfrm>
              <a:off x="4754520" y="310824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14"/>
            <p:cNvSpPr/>
            <p:nvPr/>
          </p:nvSpPr>
          <p:spPr>
            <a:xfrm>
              <a:off x="4754520" y="345672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15"/>
            <p:cNvSpPr/>
            <p:nvPr/>
          </p:nvSpPr>
          <p:spPr>
            <a:xfrm>
              <a:off x="4754520" y="380592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16"/>
            <p:cNvSpPr/>
            <p:nvPr/>
          </p:nvSpPr>
          <p:spPr>
            <a:xfrm>
              <a:off x="4754520" y="415512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17"/>
            <p:cNvSpPr/>
            <p:nvPr/>
          </p:nvSpPr>
          <p:spPr>
            <a:xfrm>
              <a:off x="4754520" y="450396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18"/>
            <p:cNvSpPr/>
            <p:nvPr/>
          </p:nvSpPr>
          <p:spPr>
            <a:xfrm>
              <a:off x="4754520" y="485316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Rectangle 19"/>
            <p:cNvSpPr/>
            <p:nvPr/>
          </p:nvSpPr>
          <p:spPr>
            <a:xfrm>
              <a:off x="4754520" y="5202360"/>
              <a:ext cx="312552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20"/>
            <p:cNvSpPr/>
            <p:nvPr/>
          </p:nvSpPr>
          <p:spPr>
            <a:xfrm>
              <a:off x="4754520" y="5551200"/>
              <a:ext cx="312552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4" name="Line 21"/>
          <p:cNvSpPr/>
          <p:nvPr/>
        </p:nvSpPr>
        <p:spPr>
          <a:xfrm>
            <a:off x="5100480" y="253368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22"/>
              <p:cNvSpPr txBox="1"/>
              <p:nvPr/>
            </p:nvSpPr>
            <p:spPr>
              <a:xfrm>
                <a:off x="5668920" y="4560840"/>
                <a:ext cx="2541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Object 23"/>
              <p:cNvSpPr txBox="1"/>
              <p:nvPr/>
            </p:nvSpPr>
            <p:spPr>
              <a:xfrm>
                <a:off x="6380280" y="4761000"/>
                <a:ext cx="22212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Object 24"/>
              <p:cNvSpPr txBox="1"/>
              <p:nvPr/>
            </p:nvSpPr>
            <p:spPr>
              <a:xfrm>
                <a:off x="7032600" y="4557600"/>
                <a:ext cx="36684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8" name="Object 25"/>
              <p:cNvSpPr txBox="1"/>
              <p:nvPr/>
            </p:nvSpPr>
            <p:spPr>
              <a:xfrm>
                <a:off x="4816440" y="3311640"/>
                <a:ext cx="1951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9" name="Object 26"/>
              <p:cNvSpPr txBox="1"/>
              <p:nvPr/>
            </p:nvSpPr>
            <p:spPr>
              <a:xfrm>
                <a:off x="4662360" y="5375160"/>
                <a:ext cx="38916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0" name="Oval 27"/>
          <p:cNvSpPr/>
          <p:nvPr/>
        </p:nvSpPr>
        <p:spPr>
          <a:xfrm>
            <a:off x="6396120" y="543888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28"/>
          <p:cNvSpPr/>
          <p:nvPr/>
        </p:nvSpPr>
        <p:spPr>
          <a:xfrm>
            <a:off x="5013360" y="3368520"/>
            <a:ext cx="179280" cy="182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29"/>
          <p:cNvSpPr/>
          <p:nvPr/>
        </p:nvSpPr>
        <p:spPr>
          <a:xfrm>
            <a:off x="7102440" y="441324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30"/>
          <p:cNvSpPr/>
          <p:nvPr/>
        </p:nvSpPr>
        <p:spPr>
          <a:xfrm>
            <a:off x="5711760" y="4414680"/>
            <a:ext cx="179280" cy="182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Oval 31"/>
          <p:cNvSpPr/>
          <p:nvPr/>
        </p:nvSpPr>
        <p:spPr>
          <a:xfrm>
            <a:off x="7791480" y="3376440"/>
            <a:ext cx="179280" cy="182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reeform 32"/>
          <p:cNvSpPr/>
          <p:nvPr/>
        </p:nvSpPr>
        <p:spPr>
          <a:xfrm>
            <a:off x="1366920" y="3354480"/>
            <a:ext cx="9308880" cy="2268360"/>
          </a:xfrm>
          <a:custGeom>
            <a:avLst/>
            <a:gdLst>
              <a:gd name="textAreaLeft" fmla="*/ 0 w 9308880"/>
              <a:gd name="textAreaRight" fmla="*/ 9309240 w 9308880"/>
              <a:gd name="textAreaTop" fmla="*/ 0 h 2268360"/>
              <a:gd name="textAreaBottom" fmla="*/ 2268720 h 2268360"/>
            </a:gdLst>
            <a:ahLst/>
            <a:rect l="textAreaLeft" t="textAreaTop" r="textAreaRight" b="textAreaBottom"/>
            <a:pathLst>
              <a:path w="5864" h="1018">
                <a:moveTo>
                  <a:pt x="0" y="815"/>
                </a:moveTo>
                <a:cubicBezTo>
                  <a:pt x="195" y="407"/>
                  <a:pt x="391" y="0"/>
                  <a:pt x="645" y="24"/>
                </a:cubicBezTo>
                <a:cubicBezTo>
                  <a:pt x="899" y="48"/>
                  <a:pt x="1234" y="957"/>
                  <a:pt x="1522" y="961"/>
                </a:cubicBezTo>
                <a:cubicBezTo>
                  <a:pt x="1810" y="965"/>
                  <a:pt x="2087" y="45"/>
                  <a:pt x="2373" y="49"/>
                </a:cubicBezTo>
                <a:cubicBezTo>
                  <a:pt x="2659" y="53"/>
                  <a:pt x="2953" y="984"/>
                  <a:pt x="3241" y="986"/>
                </a:cubicBezTo>
                <a:cubicBezTo>
                  <a:pt x="3529" y="988"/>
                  <a:pt x="3813" y="56"/>
                  <a:pt x="4101" y="58"/>
                </a:cubicBezTo>
                <a:cubicBezTo>
                  <a:pt x="4389" y="60"/>
                  <a:pt x="4710" y="972"/>
                  <a:pt x="4969" y="995"/>
                </a:cubicBezTo>
                <a:cubicBezTo>
                  <a:pt x="5228" y="1018"/>
                  <a:pt x="5508" y="345"/>
                  <a:pt x="5657" y="196"/>
                </a:cubicBezTo>
                <a:cubicBezTo>
                  <a:pt x="5806" y="47"/>
                  <a:pt x="5835" y="74"/>
                  <a:pt x="5864" y="101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33"/>
          <p:cNvSpPr/>
          <p:nvPr/>
        </p:nvSpPr>
        <p:spPr>
          <a:xfrm>
            <a:off x="7902720" y="2962440"/>
            <a:ext cx="1350720" cy="142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34"/>
          <p:cNvSpPr/>
          <p:nvPr/>
        </p:nvSpPr>
        <p:spPr>
          <a:xfrm>
            <a:off x="3387600" y="460224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35"/>
          <p:cNvSpPr/>
          <p:nvPr/>
        </p:nvSpPr>
        <p:spPr>
          <a:xfrm>
            <a:off x="-38160" y="3289320"/>
            <a:ext cx="4761000" cy="221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36"/>
          <p:cNvSpPr/>
          <p:nvPr/>
        </p:nvSpPr>
        <p:spPr>
          <a:xfrm>
            <a:off x="7894800" y="3456000"/>
            <a:ext cx="196056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37"/>
          <p:cNvSpPr/>
          <p:nvPr/>
        </p:nvSpPr>
        <p:spPr>
          <a:xfrm>
            <a:off x="795240" y="287028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8"/>
          <p:cNvSpPr/>
          <p:nvPr/>
        </p:nvSpPr>
        <p:spPr>
          <a:xfrm>
            <a:off x="749160" y="370692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39"/>
          <p:cNvSpPr/>
          <p:nvPr/>
        </p:nvSpPr>
        <p:spPr>
          <a:xfrm>
            <a:off x="933480" y="464040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Translation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40"/>
          <p:cNvSpPr/>
          <p:nvPr/>
        </p:nvSpPr>
        <p:spPr>
          <a:xfrm>
            <a:off x="880920" y="521640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right </a:t>
            </a:r>
            <a:r>
              <a:rPr b="0" lang="en-US" sz="3400" spc="-1" strike="noStrike">
                <a:solidFill>
                  <a:srgbClr val="663300"/>
                </a:solidFill>
                <a:latin typeface="Symbol"/>
                <a:ea typeface="Symbol"/>
              </a:rPr>
              <a:t>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41"/>
          <p:cNvSpPr/>
          <p:nvPr/>
        </p:nvSpPr>
        <p:spPr>
          <a:xfrm>
            <a:off x="3379680" y="298296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42"/>
          <p:cNvSpPr/>
          <p:nvPr/>
        </p:nvSpPr>
        <p:spPr>
          <a:xfrm>
            <a:off x="7896240" y="463860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43"/>
              <p:cNvSpPr txBox="1"/>
              <p:nvPr/>
            </p:nvSpPr>
            <p:spPr>
              <a:xfrm>
                <a:off x="7707240" y="4645080"/>
                <a:ext cx="35100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7" name="Line 44"/>
          <p:cNvSpPr/>
          <p:nvPr/>
        </p:nvSpPr>
        <p:spPr>
          <a:xfrm>
            <a:off x="4525920" y="4510080"/>
            <a:ext cx="3586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8" name="Object 45"/>
              <p:cNvSpPr txBox="1"/>
              <p:nvPr/>
            </p:nvSpPr>
            <p:spPr>
              <a:xfrm>
                <a:off x="3279600" y="2843280"/>
                <a:ext cx="4194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Object 46"/>
              <p:cNvSpPr txBox="1"/>
              <p:nvPr/>
            </p:nvSpPr>
            <p:spPr>
              <a:xfrm>
                <a:off x="3035160" y="3692520"/>
                <a:ext cx="8622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4" dur="indefinite" restart="never" nodeType="tmRoot">
          <p:childTnLst>
            <p:seq>
              <p:cTn id="1675" dur="indefinite" nodeType="mainSeq">
                <p:childTnLst>
                  <p:par>
                    <p:cTn id="1676" fill="hold">
                      <p:stCondLst>
                        <p:cond delay="indefinite"/>
                      </p:stCondLst>
                      <p:childTnLst>
                        <p:par>
                          <p:cTn id="1677" fill="hold">
                            <p:stCondLst>
                              <p:cond delay="0"/>
                            </p:stCondLst>
                            <p:childTnLst>
                              <p:par>
                                <p:cTn id="1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5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8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1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1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4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.wav"/>
                                        </p:tgtEl>
                                      </p:cMediaNode>
                                    </p:audio>
                                    <p:animMotion origin="layout" path="M 3.05556E-006 -1.6185E-006 L 0.07205 -1.6185E-006 E">
                                      <p:cBhvr>
                                        <p:cTn id="1810" dur="2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Reflec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ph the function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3" name="Object 5"/>
              <p:cNvSpPr txBox="1"/>
              <p:nvPr/>
            </p:nvSpPr>
            <p:spPr>
              <a:xfrm>
                <a:off x="345960" y="1803240"/>
                <a:ext cx="41148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64" name="Group 6"/>
          <p:cNvGrpSpPr/>
          <p:nvPr/>
        </p:nvGrpSpPr>
        <p:grpSpPr>
          <a:xfrm>
            <a:off x="4718160" y="2882880"/>
            <a:ext cx="3125160" cy="3141360"/>
            <a:chOff x="4718160" y="2882880"/>
            <a:chExt cx="3125160" cy="3141360"/>
          </a:xfrm>
        </p:grpSpPr>
        <p:sp>
          <p:nvSpPr>
            <p:cNvPr id="665" name="Rectangle 7"/>
            <p:cNvSpPr/>
            <p:nvPr/>
          </p:nvSpPr>
          <p:spPr>
            <a:xfrm>
              <a:off x="5412240" y="288288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6107040" y="2882880"/>
              <a:ext cx="34668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6801480" y="288288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7495920" y="288288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4718160" y="288288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718160" y="288288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4718160" y="323208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14"/>
            <p:cNvSpPr/>
            <p:nvPr/>
          </p:nvSpPr>
          <p:spPr>
            <a:xfrm>
              <a:off x="4718160" y="358056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Rectangle 15"/>
            <p:cNvSpPr/>
            <p:nvPr/>
          </p:nvSpPr>
          <p:spPr>
            <a:xfrm>
              <a:off x="4718160" y="392976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16"/>
            <p:cNvSpPr/>
            <p:nvPr/>
          </p:nvSpPr>
          <p:spPr>
            <a:xfrm>
              <a:off x="4718160" y="427896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Rectangle 17"/>
            <p:cNvSpPr/>
            <p:nvPr/>
          </p:nvSpPr>
          <p:spPr>
            <a:xfrm>
              <a:off x="4718160" y="46278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18"/>
            <p:cNvSpPr/>
            <p:nvPr/>
          </p:nvSpPr>
          <p:spPr>
            <a:xfrm>
              <a:off x="4718160" y="49770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Rectangle 19"/>
            <p:cNvSpPr/>
            <p:nvPr/>
          </p:nvSpPr>
          <p:spPr>
            <a:xfrm>
              <a:off x="4718160" y="532620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Rectangle 20"/>
            <p:cNvSpPr/>
            <p:nvPr/>
          </p:nvSpPr>
          <p:spPr>
            <a:xfrm>
              <a:off x="4718160" y="56750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Line 21"/>
          <p:cNvSpPr/>
          <p:nvPr/>
        </p:nvSpPr>
        <p:spPr>
          <a:xfrm>
            <a:off x="5064120" y="265752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0" name="Object 22"/>
              <p:cNvSpPr txBox="1"/>
              <p:nvPr/>
            </p:nvSpPr>
            <p:spPr>
              <a:xfrm>
                <a:off x="5632560" y="4684680"/>
                <a:ext cx="2538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Object 23"/>
              <p:cNvSpPr txBox="1"/>
              <p:nvPr/>
            </p:nvSpPr>
            <p:spPr>
              <a:xfrm>
                <a:off x="6343560" y="4884840"/>
                <a:ext cx="22248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Object 24"/>
              <p:cNvSpPr txBox="1"/>
              <p:nvPr/>
            </p:nvSpPr>
            <p:spPr>
              <a:xfrm>
                <a:off x="6996240" y="4681440"/>
                <a:ext cx="3664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3" name="Object 25"/>
              <p:cNvSpPr txBox="1"/>
              <p:nvPr/>
            </p:nvSpPr>
            <p:spPr>
              <a:xfrm>
                <a:off x="4829040" y="3794040"/>
                <a:ext cx="15588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4" name="Object 26"/>
              <p:cNvSpPr txBox="1"/>
              <p:nvPr/>
            </p:nvSpPr>
            <p:spPr>
              <a:xfrm>
                <a:off x="4659480" y="5189400"/>
                <a:ext cx="35064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5" name="Oval 27"/>
          <p:cNvSpPr/>
          <p:nvPr/>
        </p:nvSpPr>
        <p:spPr>
          <a:xfrm>
            <a:off x="6359400" y="524340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Oval 28"/>
          <p:cNvSpPr/>
          <p:nvPr/>
        </p:nvSpPr>
        <p:spPr>
          <a:xfrm>
            <a:off x="4976640" y="384192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Oval 29"/>
          <p:cNvSpPr/>
          <p:nvPr/>
        </p:nvSpPr>
        <p:spPr>
          <a:xfrm>
            <a:off x="7066080" y="453708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Oval 30"/>
          <p:cNvSpPr/>
          <p:nvPr/>
        </p:nvSpPr>
        <p:spPr>
          <a:xfrm>
            <a:off x="5675400" y="4538520"/>
            <a:ext cx="179280" cy="182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Oval 31"/>
          <p:cNvSpPr/>
          <p:nvPr/>
        </p:nvSpPr>
        <p:spPr>
          <a:xfrm>
            <a:off x="7754760" y="3833640"/>
            <a:ext cx="179640" cy="182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Freeform 32"/>
          <p:cNvSpPr/>
          <p:nvPr/>
        </p:nvSpPr>
        <p:spPr>
          <a:xfrm>
            <a:off x="1330200" y="3827520"/>
            <a:ext cx="9309240" cy="1571400"/>
          </a:xfrm>
          <a:custGeom>
            <a:avLst/>
            <a:gdLst>
              <a:gd name="textAreaLeft" fmla="*/ 0 w 9309240"/>
              <a:gd name="textAreaRight" fmla="*/ 9309600 w 93092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5864" h="1018">
                <a:moveTo>
                  <a:pt x="0" y="815"/>
                </a:moveTo>
                <a:cubicBezTo>
                  <a:pt x="195" y="407"/>
                  <a:pt x="391" y="0"/>
                  <a:pt x="645" y="24"/>
                </a:cubicBezTo>
                <a:cubicBezTo>
                  <a:pt x="899" y="48"/>
                  <a:pt x="1234" y="957"/>
                  <a:pt x="1522" y="961"/>
                </a:cubicBezTo>
                <a:cubicBezTo>
                  <a:pt x="1810" y="965"/>
                  <a:pt x="2087" y="45"/>
                  <a:pt x="2373" y="49"/>
                </a:cubicBezTo>
                <a:cubicBezTo>
                  <a:pt x="2659" y="53"/>
                  <a:pt x="2953" y="984"/>
                  <a:pt x="3241" y="986"/>
                </a:cubicBezTo>
                <a:cubicBezTo>
                  <a:pt x="3529" y="988"/>
                  <a:pt x="3813" y="56"/>
                  <a:pt x="4101" y="58"/>
                </a:cubicBezTo>
                <a:cubicBezTo>
                  <a:pt x="4389" y="60"/>
                  <a:pt x="4710" y="972"/>
                  <a:pt x="4969" y="995"/>
                </a:cubicBezTo>
                <a:cubicBezTo>
                  <a:pt x="5228" y="1018"/>
                  <a:pt x="5508" y="345"/>
                  <a:pt x="5657" y="196"/>
                </a:cubicBezTo>
                <a:cubicBezTo>
                  <a:pt x="5806" y="47"/>
                  <a:pt x="5835" y="74"/>
                  <a:pt x="5864" y="101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33"/>
              <p:cNvSpPr txBox="1"/>
              <p:nvPr/>
            </p:nvSpPr>
            <p:spPr>
              <a:xfrm>
                <a:off x="7653240" y="4761000"/>
                <a:ext cx="3873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2" name="Freeform 34"/>
          <p:cNvSpPr/>
          <p:nvPr/>
        </p:nvSpPr>
        <p:spPr>
          <a:xfrm flipV="1">
            <a:off x="1308240" y="3881160"/>
            <a:ext cx="9308880" cy="1504800"/>
          </a:xfrm>
          <a:custGeom>
            <a:avLst/>
            <a:gdLst>
              <a:gd name="textAreaLeft" fmla="*/ 0 w 9308880"/>
              <a:gd name="textAreaRight" fmla="*/ 9309240 w 9308880"/>
              <a:gd name="textAreaTop" fmla="*/ 360 h 1504800"/>
              <a:gd name="textAreaBottom" fmla="*/ 1505520 h 1504800"/>
            </a:gdLst>
            <a:ahLst/>
            <a:rect l="textAreaLeft" t="textAreaTop" r="textAreaRight" b="textAreaBottom"/>
            <a:pathLst>
              <a:path w="5864" h="1018">
                <a:moveTo>
                  <a:pt x="0" y="815"/>
                </a:moveTo>
                <a:cubicBezTo>
                  <a:pt x="195" y="407"/>
                  <a:pt x="391" y="0"/>
                  <a:pt x="645" y="24"/>
                </a:cubicBezTo>
                <a:cubicBezTo>
                  <a:pt x="899" y="48"/>
                  <a:pt x="1234" y="957"/>
                  <a:pt x="1522" y="961"/>
                </a:cubicBezTo>
                <a:cubicBezTo>
                  <a:pt x="1810" y="965"/>
                  <a:pt x="2087" y="45"/>
                  <a:pt x="2373" y="49"/>
                </a:cubicBezTo>
                <a:cubicBezTo>
                  <a:pt x="2659" y="53"/>
                  <a:pt x="2953" y="984"/>
                  <a:pt x="3241" y="986"/>
                </a:cubicBezTo>
                <a:cubicBezTo>
                  <a:pt x="3529" y="988"/>
                  <a:pt x="3813" y="56"/>
                  <a:pt x="4101" y="58"/>
                </a:cubicBezTo>
                <a:cubicBezTo>
                  <a:pt x="4389" y="60"/>
                  <a:pt x="4710" y="972"/>
                  <a:pt x="4969" y="995"/>
                </a:cubicBezTo>
                <a:cubicBezTo>
                  <a:pt x="5228" y="1018"/>
                  <a:pt x="5508" y="345"/>
                  <a:pt x="5657" y="196"/>
                </a:cubicBezTo>
                <a:cubicBezTo>
                  <a:pt x="5806" y="47"/>
                  <a:pt x="5835" y="74"/>
                  <a:pt x="5864" y="101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35"/>
          <p:cNvSpPr/>
          <p:nvPr/>
        </p:nvSpPr>
        <p:spPr>
          <a:xfrm>
            <a:off x="7866000" y="3086280"/>
            <a:ext cx="1351080" cy="142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36"/>
          <p:cNvSpPr/>
          <p:nvPr/>
        </p:nvSpPr>
        <p:spPr>
          <a:xfrm>
            <a:off x="3351240" y="472608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37"/>
          <p:cNvSpPr/>
          <p:nvPr/>
        </p:nvSpPr>
        <p:spPr>
          <a:xfrm>
            <a:off x="-74520" y="3689280"/>
            <a:ext cx="4761000" cy="19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38"/>
          <p:cNvSpPr/>
          <p:nvPr/>
        </p:nvSpPr>
        <p:spPr>
          <a:xfrm>
            <a:off x="7858080" y="3579840"/>
            <a:ext cx="196056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9"/>
          <p:cNvSpPr/>
          <p:nvPr/>
        </p:nvSpPr>
        <p:spPr>
          <a:xfrm>
            <a:off x="758880" y="299412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40"/>
          <p:cNvSpPr/>
          <p:nvPr/>
        </p:nvSpPr>
        <p:spPr>
          <a:xfrm>
            <a:off x="712800" y="383076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41"/>
          <p:cNvSpPr/>
          <p:nvPr/>
        </p:nvSpPr>
        <p:spPr>
          <a:xfrm>
            <a:off x="896760" y="4764240"/>
            <a:ext cx="25704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Reflection over </a:t>
            </a:r>
            <a:r>
              <a:rPr b="0" i="1" lang="en-US" sz="3400" spc="-1" strike="noStrike">
                <a:solidFill>
                  <a:srgbClr val="663300"/>
                </a:solidFill>
                <a:latin typeface="Times New Roman"/>
              </a:rPr>
              <a:t>x</a:t>
            </a: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-axis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42"/>
          <p:cNvSpPr/>
          <p:nvPr/>
        </p:nvSpPr>
        <p:spPr>
          <a:xfrm>
            <a:off x="3343320" y="310680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43"/>
          <p:cNvSpPr/>
          <p:nvPr/>
        </p:nvSpPr>
        <p:spPr>
          <a:xfrm>
            <a:off x="7859880" y="4762440"/>
            <a:ext cx="135072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44"/>
          <p:cNvSpPr/>
          <p:nvPr/>
        </p:nvSpPr>
        <p:spPr>
          <a:xfrm>
            <a:off x="4489560" y="4633920"/>
            <a:ext cx="358596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Object 45"/>
              <p:cNvSpPr txBox="1"/>
              <p:nvPr/>
            </p:nvSpPr>
            <p:spPr>
              <a:xfrm>
                <a:off x="3284640" y="2987640"/>
                <a:ext cx="3348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Object 46"/>
              <p:cNvSpPr txBox="1"/>
              <p:nvPr/>
            </p:nvSpPr>
            <p:spPr>
              <a:xfrm>
                <a:off x="2998800" y="3816360"/>
                <a:ext cx="8618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7" dur="8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8" dur="8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9" dur="80"/>
                                        <p:tgtEl>
                                          <p:spTgt spid="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4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7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0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0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4" fill="hold">
                      <p:stCondLst>
                        <p:cond delay="indefinite"/>
                      </p:stCondLst>
                      <p:childTnLst>
                        <p:par>
                          <p:cTn id="1865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8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1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3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5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Reflec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raph the function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Object 5"/>
              <p:cNvSpPr txBox="1"/>
              <p:nvPr/>
            </p:nvSpPr>
            <p:spPr>
              <a:xfrm>
                <a:off x="195120" y="1530360"/>
                <a:ext cx="4019760" cy="15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9" name="Group 6"/>
          <p:cNvGrpSpPr/>
          <p:nvPr/>
        </p:nvGrpSpPr>
        <p:grpSpPr>
          <a:xfrm>
            <a:off x="4718160" y="2882880"/>
            <a:ext cx="3125160" cy="3141360"/>
            <a:chOff x="4718160" y="2882880"/>
            <a:chExt cx="3125160" cy="3141360"/>
          </a:xfrm>
        </p:grpSpPr>
        <p:sp>
          <p:nvSpPr>
            <p:cNvPr id="710" name="Rectangle 7"/>
            <p:cNvSpPr/>
            <p:nvPr/>
          </p:nvSpPr>
          <p:spPr>
            <a:xfrm>
              <a:off x="5412240" y="288288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6107040" y="2882880"/>
              <a:ext cx="34668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6801480" y="288288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7495920" y="288288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4718160" y="288288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718160" y="288288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4718160" y="323208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14"/>
            <p:cNvSpPr/>
            <p:nvPr/>
          </p:nvSpPr>
          <p:spPr>
            <a:xfrm>
              <a:off x="4718160" y="358056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Rectangle 15"/>
            <p:cNvSpPr/>
            <p:nvPr/>
          </p:nvSpPr>
          <p:spPr>
            <a:xfrm>
              <a:off x="4718160" y="392976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16"/>
            <p:cNvSpPr/>
            <p:nvPr/>
          </p:nvSpPr>
          <p:spPr>
            <a:xfrm>
              <a:off x="4718160" y="427896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Rectangle 17"/>
            <p:cNvSpPr/>
            <p:nvPr/>
          </p:nvSpPr>
          <p:spPr>
            <a:xfrm>
              <a:off x="4718160" y="46278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18"/>
            <p:cNvSpPr/>
            <p:nvPr/>
          </p:nvSpPr>
          <p:spPr>
            <a:xfrm>
              <a:off x="4718160" y="49770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Rectangle 19"/>
            <p:cNvSpPr/>
            <p:nvPr/>
          </p:nvSpPr>
          <p:spPr>
            <a:xfrm>
              <a:off x="4718160" y="532620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20"/>
            <p:cNvSpPr/>
            <p:nvPr/>
          </p:nvSpPr>
          <p:spPr>
            <a:xfrm>
              <a:off x="4718160" y="56750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Line 21"/>
          <p:cNvSpPr/>
          <p:nvPr/>
        </p:nvSpPr>
        <p:spPr>
          <a:xfrm>
            <a:off x="5064120" y="265752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Object 22"/>
              <p:cNvSpPr txBox="1"/>
              <p:nvPr/>
            </p:nvSpPr>
            <p:spPr>
              <a:xfrm>
                <a:off x="5632560" y="4684680"/>
                <a:ext cx="2538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Object 23"/>
              <p:cNvSpPr txBox="1"/>
              <p:nvPr/>
            </p:nvSpPr>
            <p:spPr>
              <a:xfrm>
                <a:off x="6343560" y="4884840"/>
                <a:ext cx="22248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7" name="Object 24"/>
              <p:cNvSpPr txBox="1"/>
              <p:nvPr/>
            </p:nvSpPr>
            <p:spPr>
              <a:xfrm>
                <a:off x="6996240" y="4681440"/>
                <a:ext cx="3664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Object 25"/>
              <p:cNvSpPr txBox="1"/>
              <p:nvPr/>
            </p:nvSpPr>
            <p:spPr>
              <a:xfrm>
                <a:off x="4842000" y="3084480"/>
                <a:ext cx="15552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Object 26"/>
              <p:cNvSpPr txBox="1"/>
              <p:nvPr/>
            </p:nvSpPr>
            <p:spPr>
              <a:xfrm>
                <a:off x="4659480" y="5856120"/>
                <a:ext cx="35064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0" name="Oval 27"/>
          <p:cNvSpPr/>
          <p:nvPr/>
        </p:nvSpPr>
        <p:spPr>
          <a:xfrm>
            <a:off x="7056360" y="524340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Oval 28"/>
          <p:cNvSpPr/>
          <p:nvPr/>
        </p:nvSpPr>
        <p:spPr>
          <a:xfrm>
            <a:off x="5673600" y="384192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Oval 29"/>
          <p:cNvSpPr/>
          <p:nvPr/>
        </p:nvSpPr>
        <p:spPr>
          <a:xfrm>
            <a:off x="7763040" y="453708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Oval 30"/>
          <p:cNvSpPr/>
          <p:nvPr/>
        </p:nvSpPr>
        <p:spPr>
          <a:xfrm>
            <a:off x="6372360" y="4538520"/>
            <a:ext cx="179280" cy="182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31"/>
          <p:cNvSpPr/>
          <p:nvPr/>
        </p:nvSpPr>
        <p:spPr>
          <a:xfrm>
            <a:off x="4957920" y="452916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Freeform 32"/>
          <p:cNvSpPr/>
          <p:nvPr/>
        </p:nvSpPr>
        <p:spPr>
          <a:xfrm>
            <a:off x="1982880" y="3827520"/>
            <a:ext cx="9308880" cy="1571400"/>
          </a:xfrm>
          <a:custGeom>
            <a:avLst/>
            <a:gdLst>
              <a:gd name="textAreaLeft" fmla="*/ 0 w 9308880"/>
              <a:gd name="textAreaRight" fmla="*/ 9309240 w 930888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5864" h="1018">
                <a:moveTo>
                  <a:pt x="0" y="815"/>
                </a:moveTo>
                <a:cubicBezTo>
                  <a:pt x="195" y="407"/>
                  <a:pt x="391" y="0"/>
                  <a:pt x="645" y="24"/>
                </a:cubicBezTo>
                <a:cubicBezTo>
                  <a:pt x="899" y="48"/>
                  <a:pt x="1234" y="957"/>
                  <a:pt x="1522" y="961"/>
                </a:cubicBezTo>
                <a:cubicBezTo>
                  <a:pt x="1810" y="965"/>
                  <a:pt x="2087" y="45"/>
                  <a:pt x="2373" y="49"/>
                </a:cubicBezTo>
                <a:cubicBezTo>
                  <a:pt x="2659" y="53"/>
                  <a:pt x="2953" y="984"/>
                  <a:pt x="3241" y="986"/>
                </a:cubicBezTo>
                <a:cubicBezTo>
                  <a:pt x="3529" y="988"/>
                  <a:pt x="3813" y="56"/>
                  <a:pt x="4101" y="58"/>
                </a:cubicBezTo>
                <a:cubicBezTo>
                  <a:pt x="4389" y="60"/>
                  <a:pt x="4710" y="972"/>
                  <a:pt x="4969" y="995"/>
                </a:cubicBezTo>
                <a:cubicBezTo>
                  <a:pt x="5228" y="1018"/>
                  <a:pt x="5508" y="345"/>
                  <a:pt x="5657" y="196"/>
                </a:cubicBezTo>
                <a:cubicBezTo>
                  <a:pt x="5806" y="47"/>
                  <a:pt x="5835" y="74"/>
                  <a:pt x="5864" y="101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6" name="Object 33"/>
              <p:cNvSpPr txBox="1"/>
              <p:nvPr/>
            </p:nvSpPr>
            <p:spPr>
              <a:xfrm>
                <a:off x="7653240" y="4761000"/>
                <a:ext cx="387360" cy="28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7" name="Freeform 34"/>
          <p:cNvSpPr/>
          <p:nvPr/>
        </p:nvSpPr>
        <p:spPr>
          <a:xfrm flipV="1">
            <a:off x="1960560" y="3881160"/>
            <a:ext cx="9309240" cy="1504800"/>
          </a:xfrm>
          <a:custGeom>
            <a:avLst/>
            <a:gdLst>
              <a:gd name="textAreaLeft" fmla="*/ 0 w 9309240"/>
              <a:gd name="textAreaRight" fmla="*/ 9309600 w 9309240"/>
              <a:gd name="textAreaTop" fmla="*/ 360 h 1504800"/>
              <a:gd name="textAreaBottom" fmla="*/ 1505520 h 1504800"/>
            </a:gdLst>
            <a:ahLst/>
            <a:rect l="textAreaLeft" t="textAreaTop" r="textAreaRight" b="textAreaBottom"/>
            <a:pathLst>
              <a:path w="5864" h="1018">
                <a:moveTo>
                  <a:pt x="0" y="815"/>
                </a:moveTo>
                <a:cubicBezTo>
                  <a:pt x="195" y="407"/>
                  <a:pt x="391" y="0"/>
                  <a:pt x="645" y="24"/>
                </a:cubicBezTo>
                <a:cubicBezTo>
                  <a:pt x="899" y="48"/>
                  <a:pt x="1234" y="957"/>
                  <a:pt x="1522" y="961"/>
                </a:cubicBezTo>
                <a:cubicBezTo>
                  <a:pt x="1810" y="965"/>
                  <a:pt x="2087" y="45"/>
                  <a:pt x="2373" y="49"/>
                </a:cubicBezTo>
                <a:cubicBezTo>
                  <a:pt x="2659" y="53"/>
                  <a:pt x="2953" y="984"/>
                  <a:pt x="3241" y="986"/>
                </a:cubicBezTo>
                <a:cubicBezTo>
                  <a:pt x="3529" y="988"/>
                  <a:pt x="3813" y="56"/>
                  <a:pt x="4101" y="58"/>
                </a:cubicBezTo>
                <a:cubicBezTo>
                  <a:pt x="4389" y="60"/>
                  <a:pt x="4710" y="972"/>
                  <a:pt x="4969" y="995"/>
                </a:cubicBezTo>
                <a:cubicBezTo>
                  <a:pt x="5228" y="1018"/>
                  <a:pt x="5508" y="345"/>
                  <a:pt x="5657" y="196"/>
                </a:cubicBezTo>
                <a:cubicBezTo>
                  <a:pt x="5806" y="47"/>
                  <a:pt x="5835" y="74"/>
                  <a:pt x="5864" y="101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35"/>
          <p:cNvSpPr/>
          <p:nvPr/>
        </p:nvSpPr>
        <p:spPr>
          <a:xfrm>
            <a:off x="7866000" y="3086280"/>
            <a:ext cx="1351080" cy="142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36"/>
          <p:cNvSpPr/>
          <p:nvPr/>
        </p:nvSpPr>
        <p:spPr>
          <a:xfrm>
            <a:off x="3351240" y="472608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37"/>
          <p:cNvSpPr/>
          <p:nvPr/>
        </p:nvSpPr>
        <p:spPr>
          <a:xfrm>
            <a:off x="-74520" y="3689280"/>
            <a:ext cx="4761000" cy="19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Rectangle 38"/>
          <p:cNvSpPr/>
          <p:nvPr/>
        </p:nvSpPr>
        <p:spPr>
          <a:xfrm>
            <a:off x="7858080" y="3579840"/>
            <a:ext cx="196056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39"/>
          <p:cNvSpPr/>
          <p:nvPr/>
        </p:nvSpPr>
        <p:spPr>
          <a:xfrm>
            <a:off x="758880" y="328464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40"/>
          <p:cNvSpPr/>
          <p:nvPr/>
        </p:nvSpPr>
        <p:spPr>
          <a:xfrm>
            <a:off x="712800" y="444024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41"/>
          <p:cNvSpPr/>
          <p:nvPr/>
        </p:nvSpPr>
        <p:spPr>
          <a:xfrm>
            <a:off x="896760" y="5373720"/>
            <a:ext cx="25704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Reflection over </a:t>
            </a:r>
            <a:r>
              <a:rPr b="0" i="1" lang="en-US" sz="3400" spc="-1" strike="noStrike">
                <a:solidFill>
                  <a:srgbClr val="663300"/>
                </a:solidFill>
                <a:latin typeface="Times New Roman"/>
              </a:rPr>
              <a:t>x</a:t>
            </a:r>
            <a:r>
              <a:rPr b="0" lang="en-US" sz="3400" spc="-1" strike="noStrike">
                <a:solidFill>
                  <a:srgbClr val="663300"/>
                </a:solidFill>
                <a:latin typeface="Times New Roman"/>
              </a:rPr>
              <a:t>-axis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42"/>
          <p:cNvSpPr/>
          <p:nvPr/>
        </p:nvSpPr>
        <p:spPr>
          <a:xfrm>
            <a:off x="3343320" y="3106800"/>
            <a:ext cx="13510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43"/>
          <p:cNvSpPr/>
          <p:nvPr/>
        </p:nvSpPr>
        <p:spPr>
          <a:xfrm>
            <a:off x="7859880" y="4762440"/>
            <a:ext cx="135072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44"/>
          <p:cNvSpPr/>
          <p:nvPr/>
        </p:nvSpPr>
        <p:spPr>
          <a:xfrm>
            <a:off x="4489560" y="4633920"/>
            <a:ext cx="358596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Object 45"/>
              <p:cNvSpPr txBox="1"/>
              <p:nvPr/>
            </p:nvSpPr>
            <p:spPr>
              <a:xfrm>
                <a:off x="3179880" y="2970360"/>
                <a:ext cx="46332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46"/>
              <p:cNvSpPr txBox="1"/>
              <p:nvPr/>
            </p:nvSpPr>
            <p:spPr>
              <a:xfrm>
                <a:off x="2998800" y="4425840"/>
                <a:ext cx="86184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8" dur="indefinite" restart="never" nodeType="tmRoot">
          <p:childTnLst>
            <p:seq>
              <p:cTn id="1959" dur="indefinite" nodeType="mainSeq">
                <p:childTnLst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4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9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2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5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fill="hold">
                      <p:stCondLst>
                        <p:cond delay="indefinite"/>
                      </p:stCondLst>
                      <p:childTnLst>
                        <p:par>
                          <p:cTn id="1977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5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8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4" fill="hold">
                      <p:stCondLst>
                        <p:cond delay="indefinite"/>
                      </p:stCondLst>
                      <p:childTnLst>
                        <p:par>
                          <p:cTn id="2005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3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4" fill="hold">
                      <p:stCondLst>
                        <p:cond delay="indefinite"/>
                      </p:stCondLst>
                      <p:childTnLst>
                        <p:par>
                          <p:cTn id="2015" fill="hold">
                            <p:stCondLst>
                              <p:cond delay="0"/>
                            </p:stCondLst>
                            <p:childTnLst>
                              <p:par>
                                <p:cTn id="20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9" fill="hold">
                      <p:stCondLst>
                        <p:cond delay="indefinite"/>
                      </p:stCondLst>
                      <p:childTnLst>
                        <p:par>
                          <p:cTn id="2020" fill="hold">
                            <p:stCondLst>
                              <p:cond delay="0"/>
                            </p:stCondLst>
                            <p:childTnLst>
                              <p:par>
                                <p:cTn id="20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4" fill="hold">
                      <p:stCondLst>
                        <p:cond delay="indefinite"/>
                      </p:stCondLst>
                      <p:childTnLst>
                        <p:par>
                          <p:cTn id="2055" fill="hold">
                            <p:stCondLst>
                              <p:cond delay="0"/>
                            </p:stCondLst>
                            <p:childTnLst>
                              <p:par>
                                <p:cTn id="2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8" dur="2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fastca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9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 Sine, Cosine, and Tangent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ation of a Sine Func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5"/>
              <p:cNvSpPr txBox="1"/>
              <p:nvPr/>
            </p:nvSpPr>
            <p:spPr>
              <a:xfrm>
                <a:off x="5305320" y="1760400"/>
                <a:ext cx="2671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8" name="Group 9"/>
          <p:cNvGrpSpPr/>
          <p:nvPr/>
        </p:nvGrpSpPr>
        <p:grpSpPr>
          <a:xfrm>
            <a:off x="353880" y="1944720"/>
            <a:ext cx="4101840" cy="2982600"/>
            <a:chOff x="353880" y="1944720"/>
            <a:chExt cx="4101840" cy="2982600"/>
          </a:xfrm>
        </p:grpSpPr>
        <p:sp>
          <p:nvSpPr>
            <p:cNvPr id="49" name="Rectangle 10"/>
            <p:cNvSpPr/>
            <p:nvPr/>
          </p:nvSpPr>
          <p:spPr>
            <a:xfrm>
              <a:off x="35388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72648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109944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47240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184500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221832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259128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296388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333684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371016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08276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53880" y="1944720"/>
              <a:ext cx="4101840" cy="37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22"/>
            <p:cNvSpPr/>
            <p:nvPr/>
          </p:nvSpPr>
          <p:spPr>
            <a:xfrm>
              <a:off x="353880" y="2690280"/>
              <a:ext cx="4101840" cy="37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23"/>
            <p:cNvSpPr/>
            <p:nvPr/>
          </p:nvSpPr>
          <p:spPr>
            <a:xfrm>
              <a:off x="353880" y="3435840"/>
              <a:ext cx="4101840" cy="37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24"/>
            <p:cNvSpPr/>
            <p:nvPr/>
          </p:nvSpPr>
          <p:spPr>
            <a:xfrm>
              <a:off x="353880" y="4181760"/>
              <a:ext cx="4101840" cy="37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Line 25"/>
          <p:cNvSpPr/>
          <p:nvPr/>
        </p:nvSpPr>
        <p:spPr>
          <a:xfrm>
            <a:off x="189000" y="3429000"/>
            <a:ext cx="444168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26"/>
          <p:cNvSpPr/>
          <p:nvPr/>
        </p:nvSpPr>
        <p:spPr>
          <a:xfrm>
            <a:off x="735120" y="1751040"/>
            <a:ext cx="0" cy="336060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28"/>
              <p:cNvSpPr txBox="1"/>
              <p:nvPr/>
            </p:nvSpPr>
            <p:spPr>
              <a:xfrm>
                <a:off x="1320840" y="3483000"/>
                <a:ext cx="291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29"/>
              <p:cNvSpPr txBox="1"/>
              <p:nvPr/>
            </p:nvSpPr>
            <p:spPr>
              <a:xfrm>
                <a:off x="2103480" y="3538440"/>
                <a:ext cx="25236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30"/>
              <p:cNvSpPr txBox="1"/>
              <p:nvPr/>
            </p:nvSpPr>
            <p:spPr>
              <a:xfrm>
                <a:off x="2719440" y="3476520"/>
                <a:ext cx="4096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31"/>
              <p:cNvSpPr txBox="1"/>
              <p:nvPr/>
            </p:nvSpPr>
            <p:spPr>
              <a:xfrm>
                <a:off x="3494160" y="3503520"/>
                <a:ext cx="38880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34"/>
              <p:cNvSpPr txBox="1"/>
              <p:nvPr/>
            </p:nvSpPr>
            <p:spPr>
              <a:xfrm>
                <a:off x="474840" y="2519280"/>
                <a:ext cx="1555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5"/>
              <p:cNvSpPr txBox="1"/>
              <p:nvPr/>
            </p:nvSpPr>
            <p:spPr>
              <a:xfrm>
                <a:off x="298440" y="4029120"/>
                <a:ext cx="3888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Oval 36"/>
          <p:cNvSpPr/>
          <p:nvPr/>
        </p:nvSpPr>
        <p:spPr>
          <a:xfrm>
            <a:off x="671400" y="3352680"/>
            <a:ext cx="122400" cy="1224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1403280" y="2619360"/>
            <a:ext cx="122400" cy="1224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2147760" y="3384720"/>
            <a:ext cx="122400" cy="1220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2895480" y="4114800"/>
            <a:ext cx="122400" cy="1224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3641760" y="3352680"/>
            <a:ext cx="122040" cy="1224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49"/>
              <p:cNvSpPr txBox="1"/>
              <p:nvPr/>
            </p:nvSpPr>
            <p:spPr>
              <a:xfrm>
                <a:off x="6246720" y="1808280"/>
                <a:ext cx="3096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Text Box 50"/>
          <p:cNvSpPr/>
          <p:nvPr/>
        </p:nvSpPr>
        <p:spPr>
          <a:xfrm>
            <a:off x="5353200" y="242892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51"/>
          <p:cNvSpPr/>
          <p:nvPr/>
        </p:nvSpPr>
        <p:spPr>
          <a:xfrm flipV="1">
            <a:off x="1447920" y="2682360"/>
            <a:ext cx="0" cy="71604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52"/>
          <p:cNvSpPr/>
          <p:nvPr/>
        </p:nvSpPr>
        <p:spPr>
          <a:xfrm>
            <a:off x="2986200" y="3414600"/>
            <a:ext cx="0" cy="79236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54"/>
          <p:cNvSpPr/>
          <p:nvPr/>
        </p:nvSpPr>
        <p:spPr>
          <a:xfrm>
            <a:off x="347760" y="2658960"/>
            <a:ext cx="4120920" cy="1552680"/>
          </a:xfrm>
          <a:custGeom>
            <a:avLst/>
            <a:gdLst>
              <a:gd name="textAreaLeft" fmla="*/ 0 w 4120920"/>
              <a:gd name="textAreaRight" fmla="*/ 4121280 w 4120920"/>
              <a:gd name="textAreaTop" fmla="*/ 0 h 1552680"/>
              <a:gd name="textAreaBottom" fmla="*/ 1553040 h 1552680"/>
            </a:gdLst>
            <a:ahLst/>
            <a:rect l="textAreaLeft" t="textAreaTop" r="textAreaRight" b="textAreaBottom"/>
            <a:pathLst>
              <a:path w="2596" h="978">
                <a:moveTo>
                  <a:pt x="0" y="832"/>
                </a:moveTo>
                <a:cubicBezTo>
                  <a:pt x="35" y="793"/>
                  <a:pt x="71" y="755"/>
                  <a:pt x="117" y="690"/>
                </a:cubicBezTo>
                <a:cubicBezTo>
                  <a:pt x="163" y="625"/>
                  <a:pt x="225" y="513"/>
                  <a:pt x="275" y="439"/>
                </a:cubicBezTo>
                <a:cubicBezTo>
                  <a:pt x="325" y="365"/>
                  <a:pt x="370" y="308"/>
                  <a:pt x="417" y="247"/>
                </a:cubicBezTo>
                <a:cubicBezTo>
                  <a:pt x="464" y="186"/>
                  <a:pt x="509" y="112"/>
                  <a:pt x="559" y="72"/>
                </a:cubicBezTo>
                <a:cubicBezTo>
                  <a:pt x="609" y="32"/>
                  <a:pt x="662" y="0"/>
                  <a:pt x="718" y="5"/>
                </a:cubicBezTo>
                <a:cubicBezTo>
                  <a:pt x="774" y="10"/>
                  <a:pt x="822" y="34"/>
                  <a:pt x="893" y="105"/>
                </a:cubicBezTo>
                <a:cubicBezTo>
                  <a:pt x="964" y="176"/>
                  <a:pt x="1080" y="343"/>
                  <a:pt x="1143" y="431"/>
                </a:cubicBezTo>
                <a:cubicBezTo>
                  <a:pt x="1206" y="519"/>
                  <a:pt x="1225" y="567"/>
                  <a:pt x="1269" y="631"/>
                </a:cubicBezTo>
                <a:cubicBezTo>
                  <a:pt x="1313" y="695"/>
                  <a:pt x="1366" y="765"/>
                  <a:pt x="1410" y="815"/>
                </a:cubicBezTo>
                <a:cubicBezTo>
                  <a:pt x="1454" y="865"/>
                  <a:pt x="1495" y="906"/>
                  <a:pt x="1536" y="932"/>
                </a:cubicBezTo>
                <a:cubicBezTo>
                  <a:pt x="1577" y="958"/>
                  <a:pt x="1610" y="978"/>
                  <a:pt x="1653" y="974"/>
                </a:cubicBezTo>
                <a:cubicBezTo>
                  <a:pt x="1696" y="970"/>
                  <a:pt x="1747" y="943"/>
                  <a:pt x="1794" y="907"/>
                </a:cubicBezTo>
                <a:cubicBezTo>
                  <a:pt x="1841" y="871"/>
                  <a:pt x="1887" y="818"/>
                  <a:pt x="1936" y="757"/>
                </a:cubicBezTo>
                <a:cubicBezTo>
                  <a:pt x="1985" y="696"/>
                  <a:pt x="2041" y="610"/>
                  <a:pt x="2087" y="539"/>
                </a:cubicBezTo>
                <a:cubicBezTo>
                  <a:pt x="2133" y="468"/>
                  <a:pt x="2169" y="395"/>
                  <a:pt x="2212" y="331"/>
                </a:cubicBezTo>
                <a:cubicBezTo>
                  <a:pt x="2255" y="267"/>
                  <a:pt x="2302" y="201"/>
                  <a:pt x="2345" y="155"/>
                </a:cubicBezTo>
                <a:cubicBezTo>
                  <a:pt x="2388" y="109"/>
                  <a:pt x="2429" y="76"/>
                  <a:pt x="2471" y="55"/>
                </a:cubicBezTo>
                <a:cubicBezTo>
                  <a:pt x="2513" y="34"/>
                  <a:pt x="2554" y="32"/>
                  <a:pt x="2596" y="30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55"/>
              <p:cNvSpPr txBox="1"/>
              <p:nvPr/>
            </p:nvSpPr>
            <p:spPr>
              <a:xfrm>
                <a:off x="6188040" y="1793880"/>
                <a:ext cx="4255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58"/>
              <p:cNvSpPr txBox="1"/>
              <p:nvPr/>
            </p:nvSpPr>
            <p:spPr>
              <a:xfrm>
                <a:off x="7342200" y="1778040"/>
                <a:ext cx="3096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59"/>
              <p:cNvSpPr txBox="1"/>
              <p:nvPr/>
            </p:nvSpPr>
            <p:spPr>
              <a:xfrm>
                <a:off x="7283520" y="1778040"/>
                <a:ext cx="4255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60"/>
          <p:cNvSpPr/>
          <p:nvPr/>
        </p:nvSpPr>
        <p:spPr>
          <a:xfrm>
            <a:off x="5398920" y="306864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1"/>
          <p:cNvSpPr/>
          <p:nvPr/>
        </p:nvSpPr>
        <p:spPr>
          <a:xfrm>
            <a:off x="746280" y="3551400"/>
            <a:ext cx="2957400" cy="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2"/>
          <p:cNvSpPr/>
          <p:nvPr/>
        </p:nvSpPr>
        <p:spPr>
          <a:xfrm>
            <a:off x="5154480" y="3648240"/>
            <a:ext cx="3119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Complete Cycl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3"/>
              <p:cNvSpPr txBox="1"/>
              <p:nvPr/>
            </p:nvSpPr>
            <p:spPr>
              <a:xfrm>
                <a:off x="6254640" y="4218120"/>
                <a:ext cx="927360" cy="15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64"/>
              <p:cNvSpPr txBox="1"/>
              <p:nvPr/>
            </p:nvSpPr>
            <p:spPr>
              <a:xfrm>
                <a:off x="6300720" y="4232160"/>
                <a:ext cx="92700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65"/>
              <p:cNvSpPr txBox="1"/>
              <p:nvPr/>
            </p:nvSpPr>
            <p:spPr>
              <a:xfrm>
                <a:off x="7238880" y="4832280"/>
                <a:ext cx="10033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pship04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34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1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spship04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184" dur="2000" fill="hold"/>
                                        <p:tgtEl>
                                          <p:spTgt spid="81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07407E-006 L -0.09497 4.07407E-006 E">
                                      <p:cBhvr>
                                        <p:cTn id="186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50"/>
          <p:cNvGrpSpPr/>
          <p:nvPr/>
        </p:nvGrpSpPr>
        <p:grpSpPr>
          <a:xfrm>
            <a:off x="4465800" y="2454120"/>
            <a:ext cx="3125160" cy="3141360"/>
            <a:chOff x="4465800" y="2454120"/>
            <a:chExt cx="3125160" cy="3141360"/>
          </a:xfrm>
        </p:grpSpPr>
        <p:sp>
          <p:nvSpPr>
            <p:cNvPr id="92" name="Rectangle 51"/>
            <p:cNvSpPr/>
            <p:nvPr/>
          </p:nvSpPr>
          <p:spPr>
            <a:xfrm>
              <a:off x="515988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Rectangle 52"/>
            <p:cNvSpPr/>
            <p:nvPr/>
          </p:nvSpPr>
          <p:spPr>
            <a:xfrm>
              <a:off x="5854680" y="2454120"/>
              <a:ext cx="34668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53"/>
            <p:cNvSpPr/>
            <p:nvPr/>
          </p:nvSpPr>
          <p:spPr>
            <a:xfrm>
              <a:off x="654912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54"/>
            <p:cNvSpPr/>
            <p:nvPr/>
          </p:nvSpPr>
          <p:spPr>
            <a:xfrm>
              <a:off x="724356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55"/>
            <p:cNvSpPr/>
            <p:nvPr/>
          </p:nvSpPr>
          <p:spPr>
            <a:xfrm>
              <a:off x="446580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56"/>
            <p:cNvSpPr/>
            <p:nvPr/>
          </p:nvSpPr>
          <p:spPr>
            <a:xfrm>
              <a:off x="4465800" y="245412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57"/>
            <p:cNvSpPr/>
            <p:nvPr/>
          </p:nvSpPr>
          <p:spPr>
            <a:xfrm>
              <a:off x="4465800" y="280332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58"/>
            <p:cNvSpPr/>
            <p:nvPr/>
          </p:nvSpPr>
          <p:spPr>
            <a:xfrm>
              <a:off x="4465800" y="31518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59"/>
            <p:cNvSpPr/>
            <p:nvPr/>
          </p:nvSpPr>
          <p:spPr>
            <a:xfrm>
              <a:off x="4465800" y="35010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60"/>
            <p:cNvSpPr/>
            <p:nvPr/>
          </p:nvSpPr>
          <p:spPr>
            <a:xfrm>
              <a:off x="4465800" y="385020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Rectangle 61"/>
            <p:cNvSpPr/>
            <p:nvPr/>
          </p:nvSpPr>
          <p:spPr>
            <a:xfrm>
              <a:off x="4465800" y="41990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62"/>
            <p:cNvSpPr/>
            <p:nvPr/>
          </p:nvSpPr>
          <p:spPr>
            <a:xfrm>
              <a:off x="4465800" y="45482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63"/>
            <p:cNvSpPr/>
            <p:nvPr/>
          </p:nvSpPr>
          <p:spPr>
            <a:xfrm>
              <a:off x="4465800" y="489744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Rectangle 64"/>
            <p:cNvSpPr/>
            <p:nvPr/>
          </p:nvSpPr>
          <p:spPr>
            <a:xfrm>
              <a:off x="4465800" y="524628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Sine Function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raw one cycle of the function’s graph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0"/>
          <p:cNvSpPr/>
          <p:nvPr/>
        </p:nvSpPr>
        <p:spPr>
          <a:xfrm>
            <a:off x="4224240" y="3849840"/>
            <a:ext cx="3586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1"/>
          <p:cNvSpPr/>
          <p:nvPr/>
        </p:nvSpPr>
        <p:spPr>
          <a:xfrm>
            <a:off x="4811760" y="222876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32"/>
              <p:cNvSpPr txBox="1"/>
              <p:nvPr/>
            </p:nvSpPr>
            <p:spPr>
              <a:xfrm>
                <a:off x="347760" y="1733400"/>
                <a:ext cx="348120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44"/>
              <p:cNvSpPr txBox="1"/>
              <p:nvPr/>
            </p:nvSpPr>
            <p:spPr>
              <a:xfrm>
                <a:off x="1616040" y="3316320"/>
                <a:ext cx="335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45"/>
              <p:cNvSpPr txBox="1"/>
              <p:nvPr/>
            </p:nvSpPr>
            <p:spPr>
              <a:xfrm>
                <a:off x="1392120" y="4784760"/>
                <a:ext cx="103500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Text Box 65"/>
          <p:cNvSpPr/>
          <p:nvPr/>
        </p:nvSpPr>
        <p:spPr>
          <a:xfrm>
            <a:off x="642960" y="271764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6"/>
          <p:cNvSpPr/>
          <p:nvPr/>
        </p:nvSpPr>
        <p:spPr>
          <a:xfrm>
            <a:off x="671400" y="416412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67"/>
              <p:cNvSpPr txBox="1"/>
              <p:nvPr/>
            </p:nvSpPr>
            <p:spPr>
              <a:xfrm>
                <a:off x="2508120" y="5411880"/>
                <a:ext cx="11210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68"/>
              <p:cNvSpPr txBox="1"/>
              <p:nvPr/>
            </p:nvSpPr>
            <p:spPr>
              <a:xfrm>
                <a:off x="5367240" y="3900600"/>
                <a:ext cx="2541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9"/>
              <p:cNvSpPr txBox="1"/>
              <p:nvPr/>
            </p:nvSpPr>
            <p:spPr>
              <a:xfrm>
                <a:off x="6062760" y="3886200"/>
                <a:ext cx="2538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0"/>
              <p:cNvSpPr txBox="1"/>
              <p:nvPr/>
            </p:nvSpPr>
            <p:spPr>
              <a:xfrm>
                <a:off x="6730920" y="3897360"/>
                <a:ext cx="3668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71"/>
              <p:cNvSpPr txBox="1"/>
              <p:nvPr/>
            </p:nvSpPr>
            <p:spPr>
              <a:xfrm>
                <a:off x="7466040" y="3973680"/>
                <a:ext cx="272880" cy="25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72"/>
              <p:cNvSpPr txBox="1"/>
              <p:nvPr/>
            </p:nvSpPr>
            <p:spPr>
              <a:xfrm>
                <a:off x="4568760" y="2959200"/>
                <a:ext cx="1555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73"/>
              <p:cNvSpPr txBox="1"/>
              <p:nvPr/>
            </p:nvSpPr>
            <p:spPr>
              <a:xfrm>
                <a:off x="4379760" y="4441680"/>
                <a:ext cx="38916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Oval 35"/>
          <p:cNvSpPr/>
          <p:nvPr/>
        </p:nvSpPr>
        <p:spPr>
          <a:xfrm>
            <a:off x="6100920" y="374976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36"/>
          <p:cNvSpPr/>
          <p:nvPr/>
        </p:nvSpPr>
        <p:spPr>
          <a:xfrm>
            <a:off x="4732200" y="375300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46"/>
          <p:cNvSpPr/>
          <p:nvPr/>
        </p:nvSpPr>
        <p:spPr>
          <a:xfrm>
            <a:off x="6821640" y="445932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47"/>
          <p:cNvSpPr/>
          <p:nvPr/>
        </p:nvSpPr>
        <p:spPr>
          <a:xfrm>
            <a:off x="7510320" y="376560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48"/>
          <p:cNvSpPr/>
          <p:nvPr/>
        </p:nvSpPr>
        <p:spPr>
          <a:xfrm>
            <a:off x="5430960" y="305604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74"/>
          <p:cNvSpPr/>
          <p:nvPr/>
        </p:nvSpPr>
        <p:spPr>
          <a:xfrm>
            <a:off x="4467240" y="3122640"/>
            <a:ext cx="3838680" cy="1461960"/>
          </a:xfrm>
          <a:custGeom>
            <a:avLst/>
            <a:gdLst>
              <a:gd name="textAreaLeft" fmla="*/ 0 w 3838680"/>
              <a:gd name="textAreaRight" fmla="*/ 3839040 w 3838680"/>
              <a:gd name="textAreaTop" fmla="*/ 0 h 1461960"/>
              <a:gd name="textAreaBottom" fmla="*/ 1461960 h 1461960"/>
            </a:gdLst>
            <a:ahLst/>
            <a:rect l="textAreaLeft" t="textAreaTop" r="textAreaRight" b="textAreaBottom"/>
            <a:pathLst>
              <a:path w="2596" h="978">
                <a:moveTo>
                  <a:pt x="0" y="832"/>
                </a:moveTo>
                <a:cubicBezTo>
                  <a:pt x="35" y="793"/>
                  <a:pt x="71" y="755"/>
                  <a:pt x="117" y="690"/>
                </a:cubicBezTo>
                <a:cubicBezTo>
                  <a:pt x="163" y="625"/>
                  <a:pt x="225" y="513"/>
                  <a:pt x="275" y="439"/>
                </a:cubicBezTo>
                <a:cubicBezTo>
                  <a:pt x="325" y="365"/>
                  <a:pt x="370" y="308"/>
                  <a:pt x="417" y="247"/>
                </a:cubicBezTo>
                <a:cubicBezTo>
                  <a:pt x="464" y="186"/>
                  <a:pt x="509" y="112"/>
                  <a:pt x="559" y="72"/>
                </a:cubicBezTo>
                <a:cubicBezTo>
                  <a:pt x="609" y="32"/>
                  <a:pt x="662" y="0"/>
                  <a:pt x="718" y="5"/>
                </a:cubicBezTo>
                <a:cubicBezTo>
                  <a:pt x="774" y="10"/>
                  <a:pt x="822" y="34"/>
                  <a:pt x="893" y="105"/>
                </a:cubicBezTo>
                <a:cubicBezTo>
                  <a:pt x="964" y="176"/>
                  <a:pt x="1080" y="343"/>
                  <a:pt x="1143" y="431"/>
                </a:cubicBezTo>
                <a:cubicBezTo>
                  <a:pt x="1206" y="519"/>
                  <a:pt x="1225" y="567"/>
                  <a:pt x="1269" y="631"/>
                </a:cubicBezTo>
                <a:cubicBezTo>
                  <a:pt x="1313" y="695"/>
                  <a:pt x="1366" y="765"/>
                  <a:pt x="1410" y="815"/>
                </a:cubicBezTo>
                <a:cubicBezTo>
                  <a:pt x="1454" y="865"/>
                  <a:pt x="1495" y="906"/>
                  <a:pt x="1536" y="932"/>
                </a:cubicBezTo>
                <a:cubicBezTo>
                  <a:pt x="1577" y="958"/>
                  <a:pt x="1610" y="978"/>
                  <a:pt x="1653" y="974"/>
                </a:cubicBezTo>
                <a:cubicBezTo>
                  <a:pt x="1696" y="970"/>
                  <a:pt x="1747" y="943"/>
                  <a:pt x="1794" y="907"/>
                </a:cubicBezTo>
                <a:cubicBezTo>
                  <a:pt x="1841" y="871"/>
                  <a:pt x="1887" y="818"/>
                  <a:pt x="1936" y="757"/>
                </a:cubicBezTo>
                <a:cubicBezTo>
                  <a:pt x="1985" y="696"/>
                  <a:pt x="2041" y="610"/>
                  <a:pt x="2087" y="539"/>
                </a:cubicBezTo>
                <a:cubicBezTo>
                  <a:pt x="2133" y="468"/>
                  <a:pt x="2169" y="395"/>
                  <a:pt x="2212" y="331"/>
                </a:cubicBezTo>
                <a:cubicBezTo>
                  <a:pt x="2255" y="267"/>
                  <a:pt x="2302" y="201"/>
                  <a:pt x="2345" y="155"/>
                </a:cubicBezTo>
                <a:cubicBezTo>
                  <a:pt x="2388" y="109"/>
                  <a:pt x="2429" y="76"/>
                  <a:pt x="2471" y="55"/>
                </a:cubicBezTo>
                <a:cubicBezTo>
                  <a:pt x="2513" y="34"/>
                  <a:pt x="2554" y="32"/>
                  <a:pt x="2596" y="30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5"/>
          <p:cNvSpPr/>
          <p:nvPr/>
        </p:nvSpPr>
        <p:spPr>
          <a:xfrm>
            <a:off x="7650000" y="3032280"/>
            <a:ext cx="94464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4465800" y="2454120"/>
            <a:ext cx="3125160" cy="3141360"/>
            <a:chOff x="4465800" y="2454120"/>
            <a:chExt cx="3125160" cy="3141360"/>
          </a:xfrm>
        </p:grpSpPr>
        <p:sp>
          <p:nvSpPr>
            <p:cNvPr id="131" name="Rectangle 3"/>
            <p:cNvSpPr/>
            <p:nvPr/>
          </p:nvSpPr>
          <p:spPr>
            <a:xfrm>
              <a:off x="515988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5854680" y="2454120"/>
              <a:ext cx="34668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5"/>
            <p:cNvSpPr/>
            <p:nvPr/>
          </p:nvSpPr>
          <p:spPr>
            <a:xfrm>
              <a:off x="654912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6"/>
            <p:cNvSpPr/>
            <p:nvPr/>
          </p:nvSpPr>
          <p:spPr>
            <a:xfrm>
              <a:off x="724356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446580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>
              <a:off x="4465800" y="245412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4465800" y="280332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4465800" y="31518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4465800" y="35010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4465800" y="385020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13"/>
            <p:cNvSpPr/>
            <p:nvPr/>
          </p:nvSpPr>
          <p:spPr>
            <a:xfrm>
              <a:off x="4465800" y="41990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4"/>
            <p:cNvSpPr/>
            <p:nvPr/>
          </p:nvSpPr>
          <p:spPr>
            <a:xfrm>
              <a:off x="4465800" y="45482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5"/>
            <p:cNvSpPr/>
            <p:nvPr/>
          </p:nvSpPr>
          <p:spPr>
            <a:xfrm>
              <a:off x="4465800" y="489744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6"/>
            <p:cNvSpPr/>
            <p:nvPr/>
          </p:nvSpPr>
          <p:spPr>
            <a:xfrm>
              <a:off x="4465800" y="524628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Text Box 17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Sine Function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raw one cycle of the function’s graph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4224240" y="3849840"/>
            <a:ext cx="3586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4811760" y="222876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22"/>
              <p:cNvSpPr txBox="1"/>
              <p:nvPr/>
            </p:nvSpPr>
            <p:spPr>
              <a:xfrm>
                <a:off x="284040" y="1733400"/>
                <a:ext cx="361008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3"/>
              <p:cNvSpPr txBox="1"/>
              <p:nvPr/>
            </p:nvSpPr>
            <p:spPr>
              <a:xfrm>
                <a:off x="1554120" y="3316320"/>
                <a:ext cx="4604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4"/>
              <p:cNvSpPr txBox="1"/>
              <p:nvPr/>
            </p:nvSpPr>
            <p:spPr>
              <a:xfrm>
                <a:off x="1392120" y="4784760"/>
                <a:ext cx="103500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Text Box 25"/>
          <p:cNvSpPr/>
          <p:nvPr/>
        </p:nvSpPr>
        <p:spPr>
          <a:xfrm>
            <a:off x="642960" y="271764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6"/>
          <p:cNvSpPr/>
          <p:nvPr/>
        </p:nvSpPr>
        <p:spPr>
          <a:xfrm>
            <a:off x="671400" y="416412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27"/>
              <p:cNvSpPr txBox="1"/>
              <p:nvPr/>
            </p:nvSpPr>
            <p:spPr>
              <a:xfrm>
                <a:off x="2336760" y="5348160"/>
                <a:ext cx="14652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28"/>
              <p:cNvSpPr txBox="1"/>
              <p:nvPr/>
            </p:nvSpPr>
            <p:spPr>
              <a:xfrm>
                <a:off x="5367240" y="3900600"/>
                <a:ext cx="2541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29"/>
              <p:cNvSpPr txBox="1"/>
              <p:nvPr/>
            </p:nvSpPr>
            <p:spPr>
              <a:xfrm>
                <a:off x="6078600" y="4100400"/>
                <a:ext cx="222120" cy="2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30"/>
              <p:cNvSpPr txBox="1"/>
              <p:nvPr/>
            </p:nvSpPr>
            <p:spPr>
              <a:xfrm>
                <a:off x="6730920" y="3897360"/>
                <a:ext cx="3668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31"/>
              <p:cNvSpPr txBox="1"/>
              <p:nvPr/>
            </p:nvSpPr>
            <p:spPr>
              <a:xfrm>
                <a:off x="7388280" y="3944880"/>
                <a:ext cx="4302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32"/>
              <p:cNvSpPr txBox="1"/>
              <p:nvPr/>
            </p:nvSpPr>
            <p:spPr>
              <a:xfrm>
                <a:off x="4500720" y="2328840"/>
                <a:ext cx="2142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33"/>
              <p:cNvSpPr txBox="1"/>
              <p:nvPr/>
            </p:nvSpPr>
            <p:spPr>
              <a:xfrm>
                <a:off x="4260960" y="5086440"/>
                <a:ext cx="4474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Oval 34"/>
          <p:cNvSpPr/>
          <p:nvPr/>
        </p:nvSpPr>
        <p:spPr>
          <a:xfrm>
            <a:off x="6100920" y="374976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35"/>
          <p:cNvSpPr/>
          <p:nvPr/>
        </p:nvSpPr>
        <p:spPr>
          <a:xfrm>
            <a:off x="4732200" y="375300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6"/>
          <p:cNvSpPr/>
          <p:nvPr/>
        </p:nvSpPr>
        <p:spPr>
          <a:xfrm>
            <a:off x="6808680" y="515448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7"/>
          <p:cNvSpPr/>
          <p:nvPr/>
        </p:nvSpPr>
        <p:spPr>
          <a:xfrm>
            <a:off x="7510320" y="376560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38"/>
          <p:cNvSpPr/>
          <p:nvPr/>
        </p:nvSpPr>
        <p:spPr>
          <a:xfrm>
            <a:off x="5418000" y="237492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39"/>
          <p:cNvSpPr/>
          <p:nvPr/>
        </p:nvSpPr>
        <p:spPr>
          <a:xfrm>
            <a:off x="4467240" y="2440080"/>
            <a:ext cx="3838680" cy="2814480"/>
          </a:xfrm>
          <a:custGeom>
            <a:avLst/>
            <a:gdLst>
              <a:gd name="textAreaLeft" fmla="*/ 0 w 3838680"/>
              <a:gd name="textAreaRight" fmla="*/ 3839040 w 383868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2596" h="978">
                <a:moveTo>
                  <a:pt x="0" y="832"/>
                </a:moveTo>
                <a:cubicBezTo>
                  <a:pt x="35" y="793"/>
                  <a:pt x="71" y="755"/>
                  <a:pt x="117" y="690"/>
                </a:cubicBezTo>
                <a:cubicBezTo>
                  <a:pt x="163" y="625"/>
                  <a:pt x="225" y="513"/>
                  <a:pt x="275" y="439"/>
                </a:cubicBezTo>
                <a:cubicBezTo>
                  <a:pt x="325" y="365"/>
                  <a:pt x="370" y="308"/>
                  <a:pt x="417" y="247"/>
                </a:cubicBezTo>
                <a:cubicBezTo>
                  <a:pt x="464" y="186"/>
                  <a:pt x="509" y="112"/>
                  <a:pt x="559" y="72"/>
                </a:cubicBezTo>
                <a:cubicBezTo>
                  <a:pt x="609" y="32"/>
                  <a:pt x="662" y="0"/>
                  <a:pt x="718" y="5"/>
                </a:cubicBezTo>
                <a:cubicBezTo>
                  <a:pt x="774" y="10"/>
                  <a:pt x="822" y="34"/>
                  <a:pt x="893" y="105"/>
                </a:cubicBezTo>
                <a:cubicBezTo>
                  <a:pt x="964" y="176"/>
                  <a:pt x="1080" y="343"/>
                  <a:pt x="1143" y="431"/>
                </a:cubicBezTo>
                <a:cubicBezTo>
                  <a:pt x="1206" y="519"/>
                  <a:pt x="1225" y="567"/>
                  <a:pt x="1269" y="631"/>
                </a:cubicBezTo>
                <a:cubicBezTo>
                  <a:pt x="1313" y="695"/>
                  <a:pt x="1366" y="765"/>
                  <a:pt x="1410" y="815"/>
                </a:cubicBezTo>
                <a:cubicBezTo>
                  <a:pt x="1454" y="865"/>
                  <a:pt x="1495" y="906"/>
                  <a:pt x="1536" y="932"/>
                </a:cubicBezTo>
                <a:cubicBezTo>
                  <a:pt x="1577" y="958"/>
                  <a:pt x="1610" y="978"/>
                  <a:pt x="1653" y="974"/>
                </a:cubicBezTo>
                <a:cubicBezTo>
                  <a:pt x="1696" y="970"/>
                  <a:pt x="1747" y="943"/>
                  <a:pt x="1794" y="907"/>
                </a:cubicBezTo>
                <a:cubicBezTo>
                  <a:pt x="1841" y="871"/>
                  <a:pt x="1887" y="818"/>
                  <a:pt x="1936" y="757"/>
                </a:cubicBezTo>
                <a:cubicBezTo>
                  <a:pt x="1985" y="696"/>
                  <a:pt x="2041" y="610"/>
                  <a:pt x="2087" y="539"/>
                </a:cubicBezTo>
                <a:cubicBezTo>
                  <a:pt x="2133" y="468"/>
                  <a:pt x="2169" y="395"/>
                  <a:pt x="2212" y="331"/>
                </a:cubicBezTo>
                <a:cubicBezTo>
                  <a:pt x="2255" y="267"/>
                  <a:pt x="2302" y="201"/>
                  <a:pt x="2345" y="155"/>
                </a:cubicBezTo>
                <a:cubicBezTo>
                  <a:pt x="2388" y="109"/>
                  <a:pt x="2429" y="76"/>
                  <a:pt x="2471" y="55"/>
                </a:cubicBezTo>
                <a:cubicBezTo>
                  <a:pt x="2513" y="34"/>
                  <a:pt x="2554" y="32"/>
                  <a:pt x="2596" y="30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0"/>
          <p:cNvSpPr/>
          <p:nvPr/>
        </p:nvSpPr>
        <p:spPr>
          <a:xfrm>
            <a:off x="7612200" y="2298600"/>
            <a:ext cx="12142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4465800" y="2454120"/>
            <a:ext cx="3125160" cy="3141360"/>
            <a:chOff x="4465800" y="2454120"/>
            <a:chExt cx="3125160" cy="3141360"/>
          </a:xfrm>
        </p:grpSpPr>
        <p:sp>
          <p:nvSpPr>
            <p:cNvPr id="170" name="Rectangle 3"/>
            <p:cNvSpPr/>
            <p:nvPr/>
          </p:nvSpPr>
          <p:spPr>
            <a:xfrm>
              <a:off x="515988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4"/>
            <p:cNvSpPr/>
            <p:nvPr/>
          </p:nvSpPr>
          <p:spPr>
            <a:xfrm>
              <a:off x="5854680" y="2454120"/>
              <a:ext cx="34668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654912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6"/>
            <p:cNvSpPr/>
            <p:nvPr/>
          </p:nvSpPr>
          <p:spPr>
            <a:xfrm>
              <a:off x="724356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7"/>
            <p:cNvSpPr/>
            <p:nvPr/>
          </p:nvSpPr>
          <p:spPr>
            <a:xfrm>
              <a:off x="446580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8"/>
            <p:cNvSpPr/>
            <p:nvPr/>
          </p:nvSpPr>
          <p:spPr>
            <a:xfrm>
              <a:off x="4465800" y="245412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9"/>
            <p:cNvSpPr/>
            <p:nvPr/>
          </p:nvSpPr>
          <p:spPr>
            <a:xfrm>
              <a:off x="4465800" y="280332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0"/>
            <p:cNvSpPr/>
            <p:nvPr/>
          </p:nvSpPr>
          <p:spPr>
            <a:xfrm>
              <a:off x="4465800" y="31518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1"/>
            <p:cNvSpPr/>
            <p:nvPr/>
          </p:nvSpPr>
          <p:spPr>
            <a:xfrm>
              <a:off x="4465800" y="35010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2"/>
            <p:cNvSpPr/>
            <p:nvPr/>
          </p:nvSpPr>
          <p:spPr>
            <a:xfrm>
              <a:off x="4465800" y="385020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3"/>
            <p:cNvSpPr/>
            <p:nvPr/>
          </p:nvSpPr>
          <p:spPr>
            <a:xfrm>
              <a:off x="4465800" y="41990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4"/>
            <p:cNvSpPr/>
            <p:nvPr/>
          </p:nvSpPr>
          <p:spPr>
            <a:xfrm>
              <a:off x="4465800" y="45482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>
              <a:off x="4465800" y="489744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16"/>
            <p:cNvSpPr/>
            <p:nvPr/>
          </p:nvSpPr>
          <p:spPr>
            <a:xfrm>
              <a:off x="4465800" y="524628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Text Box 17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Sine Function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raw one cycle of the function’s graph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4224240" y="3849840"/>
            <a:ext cx="3586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4811760" y="222876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22"/>
              <p:cNvSpPr txBox="1"/>
              <p:nvPr/>
            </p:nvSpPr>
            <p:spPr>
              <a:xfrm>
                <a:off x="200160" y="1733400"/>
                <a:ext cx="390672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3"/>
              <p:cNvSpPr txBox="1"/>
              <p:nvPr/>
            </p:nvSpPr>
            <p:spPr>
              <a:xfrm>
                <a:off x="1574640" y="3295800"/>
                <a:ext cx="4194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4"/>
              <p:cNvSpPr txBox="1"/>
              <p:nvPr/>
            </p:nvSpPr>
            <p:spPr>
              <a:xfrm>
                <a:off x="1392120" y="4784760"/>
                <a:ext cx="103500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2" name="Text Box 25"/>
          <p:cNvSpPr/>
          <p:nvPr/>
        </p:nvSpPr>
        <p:spPr>
          <a:xfrm>
            <a:off x="642960" y="271764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671400" y="416412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7"/>
              <p:cNvSpPr txBox="1"/>
              <p:nvPr/>
            </p:nvSpPr>
            <p:spPr>
              <a:xfrm>
                <a:off x="2465280" y="4832280"/>
                <a:ext cx="1206720" cy="17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8"/>
              <p:cNvSpPr txBox="1"/>
              <p:nvPr/>
            </p:nvSpPr>
            <p:spPr>
              <a:xfrm>
                <a:off x="5367240" y="3900600"/>
                <a:ext cx="25416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9"/>
              <p:cNvSpPr txBox="1"/>
              <p:nvPr/>
            </p:nvSpPr>
            <p:spPr>
              <a:xfrm>
                <a:off x="6062760" y="3886200"/>
                <a:ext cx="25380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0"/>
              <p:cNvSpPr txBox="1"/>
              <p:nvPr/>
            </p:nvSpPr>
            <p:spPr>
              <a:xfrm>
                <a:off x="6730920" y="3897360"/>
                <a:ext cx="36684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31"/>
              <p:cNvSpPr txBox="1"/>
              <p:nvPr/>
            </p:nvSpPr>
            <p:spPr>
              <a:xfrm>
                <a:off x="7485120" y="3929040"/>
                <a:ext cx="2286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32"/>
              <p:cNvSpPr txBox="1"/>
              <p:nvPr/>
            </p:nvSpPr>
            <p:spPr>
              <a:xfrm>
                <a:off x="4522680" y="2611440"/>
                <a:ext cx="1954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33"/>
              <p:cNvSpPr txBox="1"/>
              <p:nvPr/>
            </p:nvSpPr>
            <p:spPr>
              <a:xfrm>
                <a:off x="4295880" y="4745160"/>
                <a:ext cx="4284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Oval 34"/>
          <p:cNvSpPr/>
          <p:nvPr/>
        </p:nvSpPr>
        <p:spPr>
          <a:xfrm>
            <a:off x="6100920" y="374976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5"/>
          <p:cNvSpPr/>
          <p:nvPr/>
        </p:nvSpPr>
        <p:spPr>
          <a:xfrm>
            <a:off x="4732200" y="375300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6"/>
          <p:cNvSpPr/>
          <p:nvPr/>
        </p:nvSpPr>
        <p:spPr>
          <a:xfrm>
            <a:off x="6794640" y="480708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7"/>
          <p:cNvSpPr/>
          <p:nvPr/>
        </p:nvSpPr>
        <p:spPr>
          <a:xfrm>
            <a:off x="7510320" y="376560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8"/>
          <p:cNvSpPr/>
          <p:nvPr/>
        </p:nvSpPr>
        <p:spPr>
          <a:xfrm>
            <a:off x="5418000" y="2709720"/>
            <a:ext cx="179640" cy="182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39"/>
          <p:cNvSpPr/>
          <p:nvPr/>
        </p:nvSpPr>
        <p:spPr>
          <a:xfrm>
            <a:off x="4467240" y="2736720"/>
            <a:ext cx="3838680" cy="2221200"/>
          </a:xfrm>
          <a:custGeom>
            <a:avLst/>
            <a:gdLst>
              <a:gd name="textAreaLeft" fmla="*/ 0 w 3838680"/>
              <a:gd name="textAreaRight" fmla="*/ 3839040 w 3838680"/>
              <a:gd name="textAreaTop" fmla="*/ 0 h 2221200"/>
              <a:gd name="textAreaBottom" fmla="*/ 2221560 h 2221200"/>
            </a:gdLst>
            <a:ahLst/>
            <a:rect l="textAreaLeft" t="textAreaTop" r="textAreaRight" b="textAreaBottom"/>
            <a:pathLst>
              <a:path w="2596" h="978">
                <a:moveTo>
                  <a:pt x="0" y="832"/>
                </a:moveTo>
                <a:cubicBezTo>
                  <a:pt x="35" y="793"/>
                  <a:pt x="71" y="755"/>
                  <a:pt x="117" y="690"/>
                </a:cubicBezTo>
                <a:cubicBezTo>
                  <a:pt x="163" y="625"/>
                  <a:pt x="225" y="513"/>
                  <a:pt x="275" y="439"/>
                </a:cubicBezTo>
                <a:cubicBezTo>
                  <a:pt x="325" y="365"/>
                  <a:pt x="370" y="308"/>
                  <a:pt x="417" y="247"/>
                </a:cubicBezTo>
                <a:cubicBezTo>
                  <a:pt x="464" y="186"/>
                  <a:pt x="509" y="112"/>
                  <a:pt x="559" y="72"/>
                </a:cubicBezTo>
                <a:cubicBezTo>
                  <a:pt x="609" y="32"/>
                  <a:pt x="662" y="0"/>
                  <a:pt x="718" y="5"/>
                </a:cubicBezTo>
                <a:cubicBezTo>
                  <a:pt x="774" y="10"/>
                  <a:pt x="822" y="34"/>
                  <a:pt x="893" y="105"/>
                </a:cubicBezTo>
                <a:cubicBezTo>
                  <a:pt x="964" y="176"/>
                  <a:pt x="1080" y="343"/>
                  <a:pt x="1143" y="431"/>
                </a:cubicBezTo>
                <a:cubicBezTo>
                  <a:pt x="1206" y="519"/>
                  <a:pt x="1225" y="567"/>
                  <a:pt x="1269" y="631"/>
                </a:cubicBezTo>
                <a:cubicBezTo>
                  <a:pt x="1313" y="695"/>
                  <a:pt x="1366" y="765"/>
                  <a:pt x="1410" y="815"/>
                </a:cubicBezTo>
                <a:cubicBezTo>
                  <a:pt x="1454" y="865"/>
                  <a:pt x="1495" y="906"/>
                  <a:pt x="1536" y="932"/>
                </a:cubicBezTo>
                <a:cubicBezTo>
                  <a:pt x="1577" y="958"/>
                  <a:pt x="1610" y="978"/>
                  <a:pt x="1653" y="974"/>
                </a:cubicBezTo>
                <a:cubicBezTo>
                  <a:pt x="1696" y="970"/>
                  <a:pt x="1747" y="943"/>
                  <a:pt x="1794" y="907"/>
                </a:cubicBezTo>
                <a:cubicBezTo>
                  <a:pt x="1841" y="871"/>
                  <a:pt x="1887" y="818"/>
                  <a:pt x="1936" y="757"/>
                </a:cubicBezTo>
                <a:cubicBezTo>
                  <a:pt x="1985" y="696"/>
                  <a:pt x="2041" y="610"/>
                  <a:pt x="2087" y="539"/>
                </a:cubicBezTo>
                <a:cubicBezTo>
                  <a:pt x="2133" y="468"/>
                  <a:pt x="2169" y="395"/>
                  <a:pt x="2212" y="331"/>
                </a:cubicBezTo>
                <a:cubicBezTo>
                  <a:pt x="2255" y="267"/>
                  <a:pt x="2302" y="201"/>
                  <a:pt x="2345" y="155"/>
                </a:cubicBezTo>
                <a:cubicBezTo>
                  <a:pt x="2388" y="109"/>
                  <a:pt x="2429" y="76"/>
                  <a:pt x="2471" y="55"/>
                </a:cubicBezTo>
                <a:cubicBezTo>
                  <a:pt x="2513" y="34"/>
                  <a:pt x="2554" y="32"/>
                  <a:pt x="2596" y="30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0"/>
          <p:cNvSpPr/>
          <p:nvPr/>
        </p:nvSpPr>
        <p:spPr>
          <a:xfrm>
            <a:off x="7612200" y="2298600"/>
            <a:ext cx="1214280" cy="142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0" y="677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 Sine, Cosine, and Tangent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quation of a Cosine Func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5221440" y="1873080"/>
                <a:ext cx="278604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 cos 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2" name="Group 6"/>
          <p:cNvGrpSpPr/>
          <p:nvPr/>
        </p:nvGrpSpPr>
        <p:grpSpPr>
          <a:xfrm>
            <a:off x="353880" y="1944720"/>
            <a:ext cx="4101840" cy="2982600"/>
            <a:chOff x="353880" y="1944720"/>
            <a:chExt cx="4101840" cy="2982600"/>
          </a:xfrm>
        </p:grpSpPr>
        <p:sp>
          <p:nvSpPr>
            <p:cNvPr id="213" name="Rectangle 7"/>
            <p:cNvSpPr/>
            <p:nvPr/>
          </p:nvSpPr>
          <p:spPr>
            <a:xfrm>
              <a:off x="35388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72648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9"/>
            <p:cNvSpPr/>
            <p:nvPr/>
          </p:nvSpPr>
          <p:spPr>
            <a:xfrm>
              <a:off x="109944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0"/>
            <p:cNvSpPr/>
            <p:nvPr/>
          </p:nvSpPr>
          <p:spPr>
            <a:xfrm>
              <a:off x="147240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11"/>
            <p:cNvSpPr/>
            <p:nvPr/>
          </p:nvSpPr>
          <p:spPr>
            <a:xfrm>
              <a:off x="184500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2"/>
            <p:cNvSpPr/>
            <p:nvPr/>
          </p:nvSpPr>
          <p:spPr>
            <a:xfrm>
              <a:off x="221832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Rectangle 13"/>
            <p:cNvSpPr/>
            <p:nvPr/>
          </p:nvSpPr>
          <p:spPr>
            <a:xfrm>
              <a:off x="259128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Rectangle 14"/>
            <p:cNvSpPr/>
            <p:nvPr/>
          </p:nvSpPr>
          <p:spPr>
            <a:xfrm>
              <a:off x="296388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15"/>
            <p:cNvSpPr/>
            <p:nvPr/>
          </p:nvSpPr>
          <p:spPr>
            <a:xfrm>
              <a:off x="333684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16"/>
            <p:cNvSpPr/>
            <p:nvPr/>
          </p:nvSpPr>
          <p:spPr>
            <a:xfrm>
              <a:off x="3710160" y="1944720"/>
              <a:ext cx="37260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17"/>
            <p:cNvSpPr/>
            <p:nvPr/>
          </p:nvSpPr>
          <p:spPr>
            <a:xfrm>
              <a:off x="4082760" y="1944720"/>
              <a:ext cx="372960" cy="298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18"/>
            <p:cNvSpPr/>
            <p:nvPr/>
          </p:nvSpPr>
          <p:spPr>
            <a:xfrm>
              <a:off x="353880" y="1944720"/>
              <a:ext cx="4101840" cy="37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19"/>
            <p:cNvSpPr/>
            <p:nvPr/>
          </p:nvSpPr>
          <p:spPr>
            <a:xfrm>
              <a:off x="353880" y="2690280"/>
              <a:ext cx="4101840" cy="37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20"/>
            <p:cNvSpPr/>
            <p:nvPr/>
          </p:nvSpPr>
          <p:spPr>
            <a:xfrm>
              <a:off x="353880" y="3435840"/>
              <a:ext cx="4101840" cy="37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21"/>
            <p:cNvSpPr/>
            <p:nvPr/>
          </p:nvSpPr>
          <p:spPr>
            <a:xfrm>
              <a:off x="353880" y="4181760"/>
              <a:ext cx="4101840" cy="372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Line 22"/>
          <p:cNvSpPr/>
          <p:nvPr/>
        </p:nvSpPr>
        <p:spPr>
          <a:xfrm>
            <a:off x="189000" y="3429000"/>
            <a:ext cx="444168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735120" y="1751040"/>
            <a:ext cx="0" cy="336060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24"/>
              <p:cNvSpPr txBox="1"/>
              <p:nvPr/>
            </p:nvSpPr>
            <p:spPr>
              <a:xfrm>
                <a:off x="1320840" y="3483000"/>
                <a:ext cx="29196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5"/>
              <p:cNvSpPr txBox="1"/>
              <p:nvPr/>
            </p:nvSpPr>
            <p:spPr>
              <a:xfrm>
                <a:off x="2103480" y="3538440"/>
                <a:ext cx="252360" cy="2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6"/>
              <p:cNvSpPr txBox="1"/>
              <p:nvPr/>
            </p:nvSpPr>
            <p:spPr>
              <a:xfrm>
                <a:off x="2719440" y="3476520"/>
                <a:ext cx="4096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7"/>
              <p:cNvSpPr txBox="1"/>
              <p:nvPr/>
            </p:nvSpPr>
            <p:spPr>
              <a:xfrm>
                <a:off x="3494160" y="3503520"/>
                <a:ext cx="38880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28"/>
              <p:cNvSpPr txBox="1"/>
              <p:nvPr/>
            </p:nvSpPr>
            <p:spPr>
              <a:xfrm>
                <a:off x="474840" y="2519280"/>
                <a:ext cx="15552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29"/>
              <p:cNvSpPr txBox="1"/>
              <p:nvPr/>
            </p:nvSpPr>
            <p:spPr>
              <a:xfrm>
                <a:off x="298440" y="4029120"/>
                <a:ext cx="3888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Oval 30"/>
          <p:cNvSpPr/>
          <p:nvPr/>
        </p:nvSpPr>
        <p:spPr>
          <a:xfrm>
            <a:off x="684360" y="2630520"/>
            <a:ext cx="122040" cy="1220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31"/>
          <p:cNvSpPr/>
          <p:nvPr/>
        </p:nvSpPr>
        <p:spPr>
          <a:xfrm>
            <a:off x="1406520" y="3340080"/>
            <a:ext cx="130320" cy="1364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32"/>
          <p:cNvSpPr/>
          <p:nvPr/>
        </p:nvSpPr>
        <p:spPr>
          <a:xfrm>
            <a:off x="2147760" y="4106880"/>
            <a:ext cx="122400" cy="1224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33"/>
          <p:cNvSpPr/>
          <p:nvPr/>
        </p:nvSpPr>
        <p:spPr>
          <a:xfrm>
            <a:off x="2895480" y="3367080"/>
            <a:ext cx="122400" cy="1224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34"/>
          <p:cNvSpPr/>
          <p:nvPr/>
        </p:nvSpPr>
        <p:spPr>
          <a:xfrm>
            <a:off x="3654360" y="2616120"/>
            <a:ext cx="122400" cy="1224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35"/>
              <p:cNvSpPr txBox="1"/>
              <p:nvPr/>
            </p:nvSpPr>
            <p:spPr>
              <a:xfrm>
                <a:off x="6246720" y="1808280"/>
                <a:ext cx="3096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Text Box 36"/>
          <p:cNvSpPr/>
          <p:nvPr/>
        </p:nvSpPr>
        <p:spPr>
          <a:xfrm>
            <a:off x="5353200" y="242892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37"/>
          <p:cNvSpPr/>
          <p:nvPr/>
        </p:nvSpPr>
        <p:spPr>
          <a:xfrm flipV="1">
            <a:off x="3703680" y="2673000"/>
            <a:ext cx="0" cy="71604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38"/>
          <p:cNvSpPr/>
          <p:nvPr/>
        </p:nvSpPr>
        <p:spPr>
          <a:xfrm>
            <a:off x="2224080" y="3419640"/>
            <a:ext cx="0" cy="79200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40"/>
              <p:cNvSpPr txBox="1"/>
              <p:nvPr/>
            </p:nvSpPr>
            <p:spPr>
              <a:xfrm>
                <a:off x="6188040" y="1793880"/>
                <a:ext cx="4255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41"/>
              <p:cNvSpPr txBox="1"/>
              <p:nvPr/>
            </p:nvSpPr>
            <p:spPr>
              <a:xfrm>
                <a:off x="7342200" y="1778040"/>
                <a:ext cx="3096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42"/>
              <p:cNvSpPr txBox="1"/>
              <p:nvPr/>
            </p:nvSpPr>
            <p:spPr>
              <a:xfrm>
                <a:off x="7283520" y="1778040"/>
                <a:ext cx="42552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Text Box 43"/>
          <p:cNvSpPr/>
          <p:nvPr/>
        </p:nvSpPr>
        <p:spPr>
          <a:xfrm>
            <a:off x="5398920" y="306864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44"/>
          <p:cNvSpPr/>
          <p:nvPr/>
        </p:nvSpPr>
        <p:spPr>
          <a:xfrm>
            <a:off x="768240" y="1766880"/>
            <a:ext cx="2957760" cy="0"/>
          </a:xfrm>
          <a:prstGeom prst="line">
            <a:avLst/>
          </a:prstGeom>
          <a:ln w="5724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45"/>
          <p:cNvSpPr/>
          <p:nvPr/>
        </p:nvSpPr>
        <p:spPr>
          <a:xfrm>
            <a:off x="5154480" y="3648240"/>
            <a:ext cx="3119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Complete Cycl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46"/>
              <p:cNvSpPr txBox="1"/>
              <p:nvPr/>
            </p:nvSpPr>
            <p:spPr>
              <a:xfrm>
                <a:off x="6254640" y="4218120"/>
                <a:ext cx="927360" cy="15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47"/>
              <p:cNvSpPr txBox="1"/>
              <p:nvPr/>
            </p:nvSpPr>
            <p:spPr>
              <a:xfrm>
                <a:off x="6300720" y="4232160"/>
                <a:ext cx="92700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48"/>
              <p:cNvSpPr txBox="1"/>
              <p:nvPr/>
            </p:nvSpPr>
            <p:spPr>
              <a:xfrm>
                <a:off x="7238880" y="4832280"/>
                <a:ext cx="100332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Freeform 50"/>
          <p:cNvSpPr/>
          <p:nvPr/>
        </p:nvSpPr>
        <p:spPr>
          <a:xfrm>
            <a:off x="371520" y="2630520"/>
            <a:ext cx="4108320" cy="1592280"/>
          </a:xfrm>
          <a:custGeom>
            <a:avLst/>
            <a:gdLst>
              <a:gd name="textAreaLeft" fmla="*/ 0 w 4108320"/>
              <a:gd name="textAreaRight" fmla="*/ 4108680 w 4108320"/>
              <a:gd name="textAreaTop" fmla="*/ 0 h 1592280"/>
              <a:gd name="textAreaBottom" fmla="*/ 1592640 h 1592280"/>
            </a:gdLst>
            <a:ahLst/>
            <a:rect l="textAreaLeft" t="textAreaTop" r="textAreaRight" b="textAreaBottom"/>
            <a:pathLst>
              <a:path w="2588" h="1003">
                <a:moveTo>
                  <a:pt x="0" y="193"/>
                </a:moveTo>
                <a:cubicBezTo>
                  <a:pt x="41" y="137"/>
                  <a:pt x="83" y="82"/>
                  <a:pt x="122" y="55"/>
                </a:cubicBezTo>
                <a:cubicBezTo>
                  <a:pt x="161" y="28"/>
                  <a:pt x="195" y="26"/>
                  <a:pt x="235" y="30"/>
                </a:cubicBezTo>
                <a:cubicBezTo>
                  <a:pt x="275" y="34"/>
                  <a:pt x="310" y="32"/>
                  <a:pt x="365" y="79"/>
                </a:cubicBezTo>
                <a:cubicBezTo>
                  <a:pt x="420" y="126"/>
                  <a:pt x="511" y="238"/>
                  <a:pt x="568" y="314"/>
                </a:cubicBezTo>
                <a:cubicBezTo>
                  <a:pt x="625" y="390"/>
                  <a:pt x="657" y="457"/>
                  <a:pt x="706" y="533"/>
                </a:cubicBezTo>
                <a:cubicBezTo>
                  <a:pt x="755" y="609"/>
                  <a:pt x="811" y="707"/>
                  <a:pt x="860" y="769"/>
                </a:cubicBezTo>
                <a:cubicBezTo>
                  <a:pt x="909" y="831"/>
                  <a:pt x="956" y="870"/>
                  <a:pt x="998" y="906"/>
                </a:cubicBezTo>
                <a:cubicBezTo>
                  <a:pt x="1040" y="942"/>
                  <a:pt x="1083" y="973"/>
                  <a:pt x="1111" y="988"/>
                </a:cubicBezTo>
                <a:cubicBezTo>
                  <a:pt x="1139" y="1003"/>
                  <a:pt x="1145" y="999"/>
                  <a:pt x="1168" y="996"/>
                </a:cubicBezTo>
                <a:cubicBezTo>
                  <a:pt x="1191" y="993"/>
                  <a:pt x="1215" y="990"/>
                  <a:pt x="1249" y="971"/>
                </a:cubicBezTo>
                <a:cubicBezTo>
                  <a:pt x="1283" y="952"/>
                  <a:pt x="1328" y="925"/>
                  <a:pt x="1371" y="882"/>
                </a:cubicBezTo>
                <a:cubicBezTo>
                  <a:pt x="1414" y="839"/>
                  <a:pt x="1464" y="776"/>
                  <a:pt x="1509" y="712"/>
                </a:cubicBezTo>
                <a:cubicBezTo>
                  <a:pt x="1554" y="648"/>
                  <a:pt x="1596" y="567"/>
                  <a:pt x="1639" y="501"/>
                </a:cubicBezTo>
                <a:cubicBezTo>
                  <a:pt x="1682" y="435"/>
                  <a:pt x="1727" y="373"/>
                  <a:pt x="1769" y="314"/>
                </a:cubicBezTo>
                <a:cubicBezTo>
                  <a:pt x="1811" y="255"/>
                  <a:pt x="1845" y="193"/>
                  <a:pt x="1890" y="144"/>
                </a:cubicBezTo>
                <a:cubicBezTo>
                  <a:pt x="1935" y="95"/>
                  <a:pt x="1999" y="44"/>
                  <a:pt x="2036" y="22"/>
                </a:cubicBezTo>
                <a:cubicBezTo>
                  <a:pt x="2073" y="0"/>
                  <a:pt x="2073" y="5"/>
                  <a:pt x="2109" y="14"/>
                </a:cubicBezTo>
                <a:cubicBezTo>
                  <a:pt x="2145" y="23"/>
                  <a:pt x="2206" y="40"/>
                  <a:pt x="2255" y="79"/>
                </a:cubicBezTo>
                <a:cubicBezTo>
                  <a:pt x="2304" y="118"/>
                  <a:pt x="2358" y="192"/>
                  <a:pt x="2401" y="249"/>
                </a:cubicBezTo>
                <a:cubicBezTo>
                  <a:pt x="2444" y="306"/>
                  <a:pt x="2484" y="374"/>
                  <a:pt x="2515" y="420"/>
                </a:cubicBezTo>
                <a:cubicBezTo>
                  <a:pt x="2546" y="466"/>
                  <a:pt x="2567" y="495"/>
                  <a:pt x="2588" y="525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jetflyby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spship04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33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00000" y="1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hzipup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spship04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684" dur="2000" fill="hold"/>
                                        <p:tgtEl>
                                          <p:spTgt spid="254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62428E-007 L -0.09375 0.00023 E">
                                      <p:cBhvr>
                                        <p:cTn id="686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2"/>
          <p:cNvGrpSpPr/>
          <p:nvPr/>
        </p:nvGrpSpPr>
        <p:grpSpPr>
          <a:xfrm>
            <a:off x="4465800" y="2454120"/>
            <a:ext cx="3125160" cy="3141360"/>
            <a:chOff x="4465800" y="2454120"/>
            <a:chExt cx="3125160" cy="3141360"/>
          </a:xfrm>
        </p:grpSpPr>
        <p:sp>
          <p:nvSpPr>
            <p:cNvPr id="256" name="Rectangle 3"/>
            <p:cNvSpPr/>
            <p:nvPr/>
          </p:nvSpPr>
          <p:spPr>
            <a:xfrm>
              <a:off x="515988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4"/>
            <p:cNvSpPr/>
            <p:nvPr/>
          </p:nvSpPr>
          <p:spPr>
            <a:xfrm>
              <a:off x="5854680" y="2454120"/>
              <a:ext cx="34668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5"/>
            <p:cNvSpPr/>
            <p:nvPr/>
          </p:nvSpPr>
          <p:spPr>
            <a:xfrm>
              <a:off x="654912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724356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46580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4465800" y="245412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4465800" y="280332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4465800" y="31518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4465800" y="35010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465800" y="385020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4465800" y="41990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14"/>
            <p:cNvSpPr/>
            <p:nvPr/>
          </p:nvSpPr>
          <p:spPr>
            <a:xfrm>
              <a:off x="4465800" y="45482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15"/>
            <p:cNvSpPr/>
            <p:nvPr/>
          </p:nvSpPr>
          <p:spPr>
            <a:xfrm>
              <a:off x="4465800" y="489744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16"/>
            <p:cNvSpPr/>
            <p:nvPr/>
          </p:nvSpPr>
          <p:spPr>
            <a:xfrm>
              <a:off x="4465800" y="524628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Text Box 17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Cosine Function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raw one cycle of the function’s graph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0"/>
          <p:cNvSpPr/>
          <p:nvPr/>
        </p:nvSpPr>
        <p:spPr>
          <a:xfrm>
            <a:off x="4224240" y="3849840"/>
            <a:ext cx="3586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1"/>
          <p:cNvSpPr/>
          <p:nvPr/>
        </p:nvSpPr>
        <p:spPr>
          <a:xfrm>
            <a:off x="4811760" y="222876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22"/>
              <p:cNvSpPr txBox="1"/>
              <p:nvPr/>
            </p:nvSpPr>
            <p:spPr>
              <a:xfrm>
                <a:off x="495360" y="1774800"/>
                <a:ext cx="3184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23"/>
              <p:cNvSpPr txBox="1"/>
              <p:nvPr/>
            </p:nvSpPr>
            <p:spPr>
              <a:xfrm>
                <a:off x="1616040" y="3316320"/>
                <a:ext cx="33516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24"/>
              <p:cNvSpPr txBox="1"/>
              <p:nvPr/>
            </p:nvSpPr>
            <p:spPr>
              <a:xfrm>
                <a:off x="1434960" y="4870440"/>
                <a:ext cx="949320" cy="15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8" name="Text Box 25"/>
          <p:cNvSpPr/>
          <p:nvPr/>
        </p:nvSpPr>
        <p:spPr>
          <a:xfrm>
            <a:off x="642960" y="271764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6"/>
          <p:cNvSpPr/>
          <p:nvPr/>
        </p:nvSpPr>
        <p:spPr>
          <a:xfrm>
            <a:off x="671400" y="416412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28"/>
              <p:cNvSpPr txBox="1"/>
              <p:nvPr/>
            </p:nvSpPr>
            <p:spPr>
              <a:xfrm>
                <a:off x="5375160" y="3932280"/>
                <a:ext cx="2383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29"/>
              <p:cNvSpPr txBox="1"/>
              <p:nvPr/>
            </p:nvSpPr>
            <p:spPr>
              <a:xfrm>
                <a:off x="6070680" y="3917880"/>
                <a:ext cx="237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30"/>
              <p:cNvSpPr txBox="1"/>
              <p:nvPr/>
            </p:nvSpPr>
            <p:spPr>
              <a:xfrm>
                <a:off x="6794640" y="3936960"/>
                <a:ext cx="2394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31"/>
              <p:cNvSpPr txBox="1"/>
              <p:nvPr/>
            </p:nvSpPr>
            <p:spPr>
              <a:xfrm>
                <a:off x="7402680" y="3935520"/>
                <a:ext cx="38412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Object 32"/>
              <p:cNvSpPr txBox="1"/>
              <p:nvPr/>
            </p:nvSpPr>
            <p:spPr>
              <a:xfrm>
                <a:off x="4568760" y="2959200"/>
                <a:ext cx="15552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33"/>
              <p:cNvSpPr txBox="1"/>
              <p:nvPr/>
            </p:nvSpPr>
            <p:spPr>
              <a:xfrm>
                <a:off x="4379760" y="4441680"/>
                <a:ext cx="38916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Oval 34"/>
          <p:cNvSpPr/>
          <p:nvPr/>
        </p:nvSpPr>
        <p:spPr>
          <a:xfrm>
            <a:off x="6114960" y="446400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35"/>
          <p:cNvSpPr/>
          <p:nvPr/>
        </p:nvSpPr>
        <p:spPr>
          <a:xfrm>
            <a:off x="4732200" y="306216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36"/>
          <p:cNvSpPr/>
          <p:nvPr/>
        </p:nvSpPr>
        <p:spPr>
          <a:xfrm>
            <a:off x="6821640" y="375768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37"/>
          <p:cNvSpPr/>
          <p:nvPr/>
        </p:nvSpPr>
        <p:spPr>
          <a:xfrm>
            <a:off x="7485120" y="304956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38"/>
          <p:cNvSpPr/>
          <p:nvPr/>
        </p:nvSpPr>
        <p:spPr>
          <a:xfrm>
            <a:off x="5430960" y="375912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41"/>
          <p:cNvSpPr/>
          <p:nvPr/>
        </p:nvSpPr>
        <p:spPr>
          <a:xfrm>
            <a:off x="4452840" y="3079800"/>
            <a:ext cx="3882960" cy="1500120"/>
          </a:xfrm>
          <a:custGeom>
            <a:avLst/>
            <a:gdLst>
              <a:gd name="textAreaLeft" fmla="*/ 0 w 3882960"/>
              <a:gd name="textAreaRight" fmla="*/ 3883320 w 388296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588" h="1003">
                <a:moveTo>
                  <a:pt x="0" y="193"/>
                </a:moveTo>
                <a:cubicBezTo>
                  <a:pt x="41" y="137"/>
                  <a:pt x="83" y="82"/>
                  <a:pt x="122" y="55"/>
                </a:cubicBezTo>
                <a:cubicBezTo>
                  <a:pt x="161" y="28"/>
                  <a:pt x="195" y="26"/>
                  <a:pt x="235" y="30"/>
                </a:cubicBezTo>
                <a:cubicBezTo>
                  <a:pt x="275" y="34"/>
                  <a:pt x="310" y="32"/>
                  <a:pt x="365" y="79"/>
                </a:cubicBezTo>
                <a:cubicBezTo>
                  <a:pt x="420" y="126"/>
                  <a:pt x="511" y="238"/>
                  <a:pt x="568" y="314"/>
                </a:cubicBezTo>
                <a:cubicBezTo>
                  <a:pt x="625" y="390"/>
                  <a:pt x="657" y="457"/>
                  <a:pt x="706" y="533"/>
                </a:cubicBezTo>
                <a:cubicBezTo>
                  <a:pt x="755" y="609"/>
                  <a:pt x="811" y="707"/>
                  <a:pt x="860" y="769"/>
                </a:cubicBezTo>
                <a:cubicBezTo>
                  <a:pt x="909" y="831"/>
                  <a:pt x="956" y="870"/>
                  <a:pt x="998" y="906"/>
                </a:cubicBezTo>
                <a:cubicBezTo>
                  <a:pt x="1040" y="942"/>
                  <a:pt x="1083" y="973"/>
                  <a:pt x="1111" y="988"/>
                </a:cubicBezTo>
                <a:cubicBezTo>
                  <a:pt x="1139" y="1003"/>
                  <a:pt x="1145" y="999"/>
                  <a:pt x="1168" y="996"/>
                </a:cubicBezTo>
                <a:cubicBezTo>
                  <a:pt x="1191" y="993"/>
                  <a:pt x="1215" y="990"/>
                  <a:pt x="1249" y="971"/>
                </a:cubicBezTo>
                <a:cubicBezTo>
                  <a:pt x="1283" y="952"/>
                  <a:pt x="1328" y="925"/>
                  <a:pt x="1371" y="882"/>
                </a:cubicBezTo>
                <a:cubicBezTo>
                  <a:pt x="1414" y="839"/>
                  <a:pt x="1464" y="776"/>
                  <a:pt x="1509" y="712"/>
                </a:cubicBezTo>
                <a:cubicBezTo>
                  <a:pt x="1554" y="648"/>
                  <a:pt x="1596" y="567"/>
                  <a:pt x="1639" y="501"/>
                </a:cubicBezTo>
                <a:cubicBezTo>
                  <a:pt x="1682" y="435"/>
                  <a:pt x="1727" y="373"/>
                  <a:pt x="1769" y="314"/>
                </a:cubicBezTo>
                <a:cubicBezTo>
                  <a:pt x="1811" y="255"/>
                  <a:pt x="1845" y="193"/>
                  <a:pt x="1890" y="144"/>
                </a:cubicBezTo>
                <a:cubicBezTo>
                  <a:pt x="1935" y="95"/>
                  <a:pt x="1999" y="44"/>
                  <a:pt x="2036" y="22"/>
                </a:cubicBezTo>
                <a:cubicBezTo>
                  <a:pt x="2073" y="0"/>
                  <a:pt x="2073" y="5"/>
                  <a:pt x="2109" y="14"/>
                </a:cubicBezTo>
                <a:cubicBezTo>
                  <a:pt x="2145" y="23"/>
                  <a:pt x="2206" y="40"/>
                  <a:pt x="2255" y="79"/>
                </a:cubicBezTo>
                <a:cubicBezTo>
                  <a:pt x="2304" y="118"/>
                  <a:pt x="2358" y="192"/>
                  <a:pt x="2401" y="249"/>
                </a:cubicBezTo>
                <a:cubicBezTo>
                  <a:pt x="2444" y="306"/>
                  <a:pt x="2484" y="374"/>
                  <a:pt x="2515" y="420"/>
                </a:cubicBezTo>
                <a:cubicBezTo>
                  <a:pt x="2546" y="466"/>
                  <a:pt x="2567" y="495"/>
                  <a:pt x="2588" y="525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42"/>
          <p:cNvSpPr/>
          <p:nvPr/>
        </p:nvSpPr>
        <p:spPr>
          <a:xfrm>
            <a:off x="7672320" y="2968560"/>
            <a:ext cx="954000" cy="7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43"/>
          <p:cNvSpPr/>
          <p:nvPr/>
        </p:nvSpPr>
        <p:spPr>
          <a:xfrm>
            <a:off x="7983360" y="3200400"/>
            <a:ext cx="954360" cy="7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alarmoff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8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2"/>
          <p:cNvGrpSpPr/>
          <p:nvPr/>
        </p:nvGrpSpPr>
        <p:grpSpPr>
          <a:xfrm>
            <a:off x="4465800" y="2454120"/>
            <a:ext cx="3125160" cy="3141360"/>
            <a:chOff x="4465800" y="2454120"/>
            <a:chExt cx="3125160" cy="3141360"/>
          </a:xfrm>
        </p:grpSpPr>
        <p:sp>
          <p:nvSpPr>
            <p:cNvPr id="295" name="Rectangle 3"/>
            <p:cNvSpPr/>
            <p:nvPr/>
          </p:nvSpPr>
          <p:spPr>
            <a:xfrm>
              <a:off x="515988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4"/>
            <p:cNvSpPr/>
            <p:nvPr/>
          </p:nvSpPr>
          <p:spPr>
            <a:xfrm>
              <a:off x="5854680" y="2454120"/>
              <a:ext cx="34668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5"/>
            <p:cNvSpPr/>
            <p:nvPr/>
          </p:nvSpPr>
          <p:spPr>
            <a:xfrm>
              <a:off x="654912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6"/>
            <p:cNvSpPr/>
            <p:nvPr/>
          </p:nvSpPr>
          <p:spPr>
            <a:xfrm>
              <a:off x="724356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7"/>
            <p:cNvSpPr/>
            <p:nvPr/>
          </p:nvSpPr>
          <p:spPr>
            <a:xfrm>
              <a:off x="446580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8"/>
            <p:cNvSpPr/>
            <p:nvPr/>
          </p:nvSpPr>
          <p:spPr>
            <a:xfrm>
              <a:off x="4465800" y="245412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9"/>
            <p:cNvSpPr/>
            <p:nvPr/>
          </p:nvSpPr>
          <p:spPr>
            <a:xfrm>
              <a:off x="4465800" y="280332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0"/>
            <p:cNvSpPr/>
            <p:nvPr/>
          </p:nvSpPr>
          <p:spPr>
            <a:xfrm>
              <a:off x="4465800" y="31518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1"/>
            <p:cNvSpPr/>
            <p:nvPr/>
          </p:nvSpPr>
          <p:spPr>
            <a:xfrm>
              <a:off x="4465800" y="35010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2"/>
            <p:cNvSpPr/>
            <p:nvPr/>
          </p:nvSpPr>
          <p:spPr>
            <a:xfrm>
              <a:off x="4465800" y="385020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13"/>
            <p:cNvSpPr/>
            <p:nvPr/>
          </p:nvSpPr>
          <p:spPr>
            <a:xfrm>
              <a:off x="4465800" y="41990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14"/>
            <p:cNvSpPr/>
            <p:nvPr/>
          </p:nvSpPr>
          <p:spPr>
            <a:xfrm>
              <a:off x="4465800" y="45482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15"/>
            <p:cNvSpPr/>
            <p:nvPr/>
          </p:nvSpPr>
          <p:spPr>
            <a:xfrm>
              <a:off x="4465800" y="489744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16"/>
            <p:cNvSpPr/>
            <p:nvPr/>
          </p:nvSpPr>
          <p:spPr>
            <a:xfrm>
              <a:off x="4465800" y="524628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Text Box 17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Cosine Function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raw one cycle of the function’s graph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20"/>
          <p:cNvSpPr/>
          <p:nvPr/>
        </p:nvSpPr>
        <p:spPr>
          <a:xfrm>
            <a:off x="4224240" y="3849840"/>
            <a:ext cx="3586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1"/>
          <p:cNvSpPr/>
          <p:nvPr/>
        </p:nvSpPr>
        <p:spPr>
          <a:xfrm>
            <a:off x="4811760" y="222876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22"/>
              <p:cNvSpPr txBox="1"/>
              <p:nvPr/>
            </p:nvSpPr>
            <p:spPr>
              <a:xfrm>
                <a:off x="204840" y="1862280"/>
                <a:ext cx="38224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π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23"/>
              <p:cNvSpPr txBox="1"/>
              <p:nvPr/>
            </p:nvSpPr>
            <p:spPr>
              <a:xfrm>
                <a:off x="1554120" y="3336840"/>
                <a:ext cx="46044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24"/>
              <p:cNvSpPr txBox="1"/>
              <p:nvPr/>
            </p:nvSpPr>
            <p:spPr>
              <a:xfrm>
                <a:off x="1434960" y="4870440"/>
                <a:ext cx="949320" cy="15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7" name="Text Box 25"/>
          <p:cNvSpPr/>
          <p:nvPr/>
        </p:nvSpPr>
        <p:spPr>
          <a:xfrm>
            <a:off x="642960" y="271764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671400" y="416412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27"/>
              <p:cNvSpPr txBox="1"/>
              <p:nvPr/>
            </p:nvSpPr>
            <p:spPr>
              <a:xfrm>
                <a:off x="5391000" y="3940200"/>
                <a:ext cx="2066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Object 28"/>
              <p:cNvSpPr txBox="1"/>
              <p:nvPr/>
            </p:nvSpPr>
            <p:spPr>
              <a:xfrm>
                <a:off x="6086520" y="3925800"/>
                <a:ext cx="20628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29"/>
              <p:cNvSpPr txBox="1"/>
              <p:nvPr/>
            </p:nvSpPr>
            <p:spPr>
              <a:xfrm>
                <a:off x="6810480" y="3936960"/>
                <a:ext cx="2077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Object 30"/>
              <p:cNvSpPr txBox="1"/>
              <p:nvPr/>
            </p:nvSpPr>
            <p:spPr>
              <a:xfrm>
                <a:off x="7512120" y="3979800"/>
                <a:ext cx="13968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Object 31"/>
              <p:cNvSpPr txBox="1"/>
              <p:nvPr/>
            </p:nvSpPr>
            <p:spPr>
              <a:xfrm>
                <a:off x="4540320" y="2333520"/>
                <a:ext cx="21420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32"/>
              <p:cNvSpPr txBox="1"/>
              <p:nvPr/>
            </p:nvSpPr>
            <p:spPr>
              <a:xfrm>
                <a:off x="4357800" y="5114880"/>
                <a:ext cx="407880" cy="2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5" name="Oval 33"/>
          <p:cNvSpPr/>
          <p:nvPr/>
        </p:nvSpPr>
        <p:spPr>
          <a:xfrm>
            <a:off x="6114960" y="515448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34"/>
          <p:cNvSpPr/>
          <p:nvPr/>
        </p:nvSpPr>
        <p:spPr>
          <a:xfrm>
            <a:off x="4719600" y="238752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5"/>
          <p:cNvSpPr/>
          <p:nvPr/>
        </p:nvSpPr>
        <p:spPr>
          <a:xfrm>
            <a:off x="6821640" y="375768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6"/>
          <p:cNvSpPr/>
          <p:nvPr/>
        </p:nvSpPr>
        <p:spPr>
          <a:xfrm>
            <a:off x="7497720" y="234648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7"/>
          <p:cNvSpPr/>
          <p:nvPr/>
        </p:nvSpPr>
        <p:spPr>
          <a:xfrm>
            <a:off x="5430960" y="375912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Freeform 38"/>
          <p:cNvSpPr/>
          <p:nvPr/>
        </p:nvSpPr>
        <p:spPr>
          <a:xfrm>
            <a:off x="4452840" y="2403360"/>
            <a:ext cx="3882960" cy="2865600"/>
          </a:xfrm>
          <a:custGeom>
            <a:avLst/>
            <a:gdLst>
              <a:gd name="textAreaLeft" fmla="*/ 0 w 3882960"/>
              <a:gd name="textAreaRight" fmla="*/ 3883320 w 3882960"/>
              <a:gd name="textAreaTop" fmla="*/ 0 h 2865600"/>
              <a:gd name="textAreaBottom" fmla="*/ 2865960 h 2865600"/>
            </a:gdLst>
            <a:ahLst/>
            <a:rect l="textAreaLeft" t="textAreaTop" r="textAreaRight" b="textAreaBottom"/>
            <a:pathLst>
              <a:path w="2588" h="1003">
                <a:moveTo>
                  <a:pt x="0" y="193"/>
                </a:moveTo>
                <a:cubicBezTo>
                  <a:pt x="41" y="137"/>
                  <a:pt x="83" y="82"/>
                  <a:pt x="122" y="55"/>
                </a:cubicBezTo>
                <a:cubicBezTo>
                  <a:pt x="161" y="28"/>
                  <a:pt x="195" y="26"/>
                  <a:pt x="235" y="30"/>
                </a:cubicBezTo>
                <a:cubicBezTo>
                  <a:pt x="275" y="34"/>
                  <a:pt x="310" y="32"/>
                  <a:pt x="365" y="79"/>
                </a:cubicBezTo>
                <a:cubicBezTo>
                  <a:pt x="420" y="126"/>
                  <a:pt x="511" y="238"/>
                  <a:pt x="568" y="314"/>
                </a:cubicBezTo>
                <a:cubicBezTo>
                  <a:pt x="625" y="390"/>
                  <a:pt x="657" y="457"/>
                  <a:pt x="706" y="533"/>
                </a:cubicBezTo>
                <a:cubicBezTo>
                  <a:pt x="755" y="609"/>
                  <a:pt x="811" y="707"/>
                  <a:pt x="860" y="769"/>
                </a:cubicBezTo>
                <a:cubicBezTo>
                  <a:pt x="909" y="831"/>
                  <a:pt x="956" y="870"/>
                  <a:pt x="998" y="906"/>
                </a:cubicBezTo>
                <a:cubicBezTo>
                  <a:pt x="1040" y="942"/>
                  <a:pt x="1083" y="973"/>
                  <a:pt x="1111" y="988"/>
                </a:cubicBezTo>
                <a:cubicBezTo>
                  <a:pt x="1139" y="1003"/>
                  <a:pt x="1145" y="999"/>
                  <a:pt x="1168" y="996"/>
                </a:cubicBezTo>
                <a:cubicBezTo>
                  <a:pt x="1191" y="993"/>
                  <a:pt x="1215" y="990"/>
                  <a:pt x="1249" y="971"/>
                </a:cubicBezTo>
                <a:cubicBezTo>
                  <a:pt x="1283" y="952"/>
                  <a:pt x="1328" y="925"/>
                  <a:pt x="1371" y="882"/>
                </a:cubicBezTo>
                <a:cubicBezTo>
                  <a:pt x="1414" y="839"/>
                  <a:pt x="1464" y="776"/>
                  <a:pt x="1509" y="712"/>
                </a:cubicBezTo>
                <a:cubicBezTo>
                  <a:pt x="1554" y="648"/>
                  <a:pt x="1596" y="567"/>
                  <a:pt x="1639" y="501"/>
                </a:cubicBezTo>
                <a:cubicBezTo>
                  <a:pt x="1682" y="435"/>
                  <a:pt x="1727" y="373"/>
                  <a:pt x="1769" y="314"/>
                </a:cubicBezTo>
                <a:cubicBezTo>
                  <a:pt x="1811" y="255"/>
                  <a:pt x="1845" y="193"/>
                  <a:pt x="1890" y="144"/>
                </a:cubicBezTo>
                <a:cubicBezTo>
                  <a:pt x="1935" y="95"/>
                  <a:pt x="1999" y="44"/>
                  <a:pt x="2036" y="22"/>
                </a:cubicBezTo>
                <a:cubicBezTo>
                  <a:pt x="2073" y="0"/>
                  <a:pt x="2073" y="5"/>
                  <a:pt x="2109" y="14"/>
                </a:cubicBezTo>
                <a:cubicBezTo>
                  <a:pt x="2145" y="23"/>
                  <a:pt x="2206" y="40"/>
                  <a:pt x="2255" y="79"/>
                </a:cubicBezTo>
                <a:cubicBezTo>
                  <a:pt x="2304" y="118"/>
                  <a:pt x="2358" y="192"/>
                  <a:pt x="2401" y="249"/>
                </a:cubicBezTo>
                <a:cubicBezTo>
                  <a:pt x="2444" y="306"/>
                  <a:pt x="2484" y="374"/>
                  <a:pt x="2515" y="420"/>
                </a:cubicBezTo>
                <a:cubicBezTo>
                  <a:pt x="2546" y="466"/>
                  <a:pt x="2567" y="495"/>
                  <a:pt x="2588" y="525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9"/>
          <p:cNvSpPr/>
          <p:nvPr/>
        </p:nvSpPr>
        <p:spPr>
          <a:xfrm>
            <a:off x="7977240" y="3114720"/>
            <a:ext cx="954000" cy="83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40"/>
          <p:cNvSpPr/>
          <p:nvPr/>
        </p:nvSpPr>
        <p:spPr>
          <a:xfrm>
            <a:off x="7691400" y="2459160"/>
            <a:ext cx="954000" cy="71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41"/>
              <p:cNvSpPr txBox="1"/>
              <p:nvPr/>
            </p:nvSpPr>
            <p:spPr>
              <a:xfrm>
                <a:off x="2556000" y="5337000"/>
                <a:ext cx="81756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8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1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Group 2"/>
          <p:cNvGrpSpPr/>
          <p:nvPr/>
        </p:nvGrpSpPr>
        <p:grpSpPr>
          <a:xfrm>
            <a:off x="4465800" y="2454120"/>
            <a:ext cx="3125160" cy="3141360"/>
            <a:chOff x="4465800" y="2454120"/>
            <a:chExt cx="3125160" cy="3141360"/>
          </a:xfrm>
        </p:grpSpPr>
        <p:sp>
          <p:nvSpPr>
            <p:cNvPr id="335" name="Rectangle 3"/>
            <p:cNvSpPr/>
            <p:nvPr/>
          </p:nvSpPr>
          <p:spPr>
            <a:xfrm>
              <a:off x="515988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Rectangle 4"/>
            <p:cNvSpPr/>
            <p:nvPr/>
          </p:nvSpPr>
          <p:spPr>
            <a:xfrm>
              <a:off x="5854680" y="2454120"/>
              <a:ext cx="34668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5"/>
            <p:cNvSpPr/>
            <p:nvPr/>
          </p:nvSpPr>
          <p:spPr>
            <a:xfrm>
              <a:off x="654912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Rectangle 6"/>
            <p:cNvSpPr/>
            <p:nvPr/>
          </p:nvSpPr>
          <p:spPr>
            <a:xfrm>
              <a:off x="724356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7"/>
            <p:cNvSpPr/>
            <p:nvPr/>
          </p:nvSpPr>
          <p:spPr>
            <a:xfrm>
              <a:off x="4465800" y="2454120"/>
              <a:ext cx="347400" cy="314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4465800" y="245412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4465800" y="280332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4465800" y="31518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11"/>
            <p:cNvSpPr/>
            <p:nvPr/>
          </p:nvSpPr>
          <p:spPr>
            <a:xfrm>
              <a:off x="4465800" y="350100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12"/>
            <p:cNvSpPr/>
            <p:nvPr/>
          </p:nvSpPr>
          <p:spPr>
            <a:xfrm>
              <a:off x="4465800" y="385020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13"/>
            <p:cNvSpPr/>
            <p:nvPr/>
          </p:nvSpPr>
          <p:spPr>
            <a:xfrm>
              <a:off x="4465800" y="41990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14"/>
            <p:cNvSpPr/>
            <p:nvPr/>
          </p:nvSpPr>
          <p:spPr>
            <a:xfrm>
              <a:off x="4465800" y="454824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15"/>
            <p:cNvSpPr/>
            <p:nvPr/>
          </p:nvSpPr>
          <p:spPr>
            <a:xfrm>
              <a:off x="4465800" y="4897440"/>
              <a:ext cx="3125160" cy="34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16"/>
            <p:cNvSpPr/>
            <p:nvPr/>
          </p:nvSpPr>
          <p:spPr>
            <a:xfrm>
              <a:off x="4465800" y="5246280"/>
              <a:ext cx="3125160" cy="34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Text Box 17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tes Over 13.7 &amp; 13.8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8"/>
          <p:cNvSpPr/>
          <p:nvPr/>
        </p:nvSpPr>
        <p:spPr>
          <a:xfrm>
            <a:off x="0" y="67788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aphing a Cosine Function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9"/>
          <p:cNvSpPr/>
          <p:nvPr/>
        </p:nvSpPr>
        <p:spPr>
          <a:xfrm>
            <a:off x="168120" y="116352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raw one cycle of the function’s graph.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20"/>
          <p:cNvSpPr/>
          <p:nvPr/>
        </p:nvSpPr>
        <p:spPr>
          <a:xfrm>
            <a:off x="4224240" y="3849840"/>
            <a:ext cx="3586320" cy="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21"/>
          <p:cNvSpPr/>
          <p:nvPr/>
        </p:nvSpPr>
        <p:spPr>
          <a:xfrm>
            <a:off x="4811760" y="2228760"/>
            <a:ext cx="0" cy="3579840"/>
          </a:xfrm>
          <a:prstGeom prst="line">
            <a:avLst/>
          </a:prstGeom>
          <a:ln w="572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22"/>
              <p:cNvSpPr txBox="1"/>
              <p:nvPr/>
            </p:nvSpPr>
            <p:spPr>
              <a:xfrm>
                <a:off x="325440" y="1774800"/>
                <a:ext cx="35244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Object 23"/>
              <p:cNvSpPr txBox="1"/>
              <p:nvPr/>
            </p:nvSpPr>
            <p:spPr>
              <a:xfrm>
                <a:off x="1574640" y="3316320"/>
                <a:ext cx="4176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Object 24"/>
              <p:cNvSpPr txBox="1"/>
              <p:nvPr/>
            </p:nvSpPr>
            <p:spPr>
              <a:xfrm>
                <a:off x="1434960" y="4890960"/>
                <a:ext cx="949320" cy="150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Text Box 25"/>
          <p:cNvSpPr/>
          <p:nvPr/>
        </p:nvSpPr>
        <p:spPr>
          <a:xfrm>
            <a:off x="642960" y="2717640"/>
            <a:ext cx="2570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00"/>
                </a:solidFill>
                <a:latin typeface="Times New Roman"/>
              </a:rPr>
              <a:t>Amplitude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6"/>
          <p:cNvSpPr/>
          <p:nvPr/>
        </p:nvSpPr>
        <p:spPr>
          <a:xfrm>
            <a:off x="671400" y="4164120"/>
            <a:ext cx="2570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Times New Roman"/>
              </a:rPr>
              <a:t>Period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27"/>
              <p:cNvSpPr txBox="1"/>
              <p:nvPr/>
            </p:nvSpPr>
            <p:spPr>
              <a:xfrm>
                <a:off x="5375160" y="3940200"/>
                <a:ext cx="2383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28"/>
              <p:cNvSpPr txBox="1"/>
              <p:nvPr/>
            </p:nvSpPr>
            <p:spPr>
              <a:xfrm>
                <a:off x="6070680" y="3925800"/>
                <a:ext cx="2379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29"/>
              <p:cNvSpPr txBox="1"/>
              <p:nvPr/>
            </p:nvSpPr>
            <p:spPr>
              <a:xfrm>
                <a:off x="6746760" y="3936960"/>
                <a:ext cx="3351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Object 30"/>
              <p:cNvSpPr txBox="1"/>
              <p:nvPr/>
            </p:nvSpPr>
            <p:spPr>
              <a:xfrm>
                <a:off x="7480440" y="4089240"/>
                <a:ext cx="226800" cy="2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31"/>
              <p:cNvSpPr txBox="1"/>
              <p:nvPr/>
            </p:nvSpPr>
            <p:spPr>
              <a:xfrm>
                <a:off x="4549680" y="2639880"/>
                <a:ext cx="1936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32"/>
              <p:cNvSpPr txBox="1"/>
              <p:nvPr/>
            </p:nvSpPr>
            <p:spPr>
              <a:xfrm>
                <a:off x="4365720" y="4719600"/>
                <a:ext cx="38880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Oval 33"/>
          <p:cNvSpPr/>
          <p:nvPr/>
        </p:nvSpPr>
        <p:spPr>
          <a:xfrm>
            <a:off x="6114960" y="4807080"/>
            <a:ext cx="17964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34"/>
          <p:cNvSpPr/>
          <p:nvPr/>
        </p:nvSpPr>
        <p:spPr>
          <a:xfrm>
            <a:off x="4719600" y="2717640"/>
            <a:ext cx="179280" cy="182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Oval 35"/>
          <p:cNvSpPr/>
          <p:nvPr/>
        </p:nvSpPr>
        <p:spPr>
          <a:xfrm>
            <a:off x="6821640" y="375768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val 36"/>
          <p:cNvSpPr/>
          <p:nvPr/>
        </p:nvSpPr>
        <p:spPr>
          <a:xfrm>
            <a:off x="7485120" y="2717640"/>
            <a:ext cx="179280" cy="1828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val 37"/>
          <p:cNvSpPr/>
          <p:nvPr/>
        </p:nvSpPr>
        <p:spPr>
          <a:xfrm>
            <a:off x="5430960" y="3759120"/>
            <a:ext cx="179280" cy="1825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Freeform 38"/>
          <p:cNvSpPr/>
          <p:nvPr/>
        </p:nvSpPr>
        <p:spPr>
          <a:xfrm>
            <a:off x="4452840" y="2760840"/>
            <a:ext cx="3882960" cy="2149200"/>
          </a:xfrm>
          <a:custGeom>
            <a:avLst/>
            <a:gdLst>
              <a:gd name="textAreaLeft" fmla="*/ 0 w 3882960"/>
              <a:gd name="textAreaRight" fmla="*/ 3883320 w 3882960"/>
              <a:gd name="textAreaTop" fmla="*/ 0 h 2149200"/>
              <a:gd name="textAreaBottom" fmla="*/ 2149560 h 2149200"/>
            </a:gdLst>
            <a:ahLst/>
            <a:rect l="textAreaLeft" t="textAreaTop" r="textAreaRight" b="textAreaBottom"/>
            <a:pathLst>
              <a:path w="2588" h="1003">
                <a:moveTo>
                  <a:pt x="0" y="193"/>
                </a:moveTo>
                <a:cubicBezTo>
                  <a:pt x="41" y="137"/>
                  <a:pt x="83" y="82"/>
                  <a:pt x="122" y="55"/>
                </a:cubicBezTo>
                <a:cubicBezTo>
                  <a:pt x="161" y="28"/>
                  <a:pt x="195" y="26"/>
                  <a:pt x="235" y="30"/>
                </a:cubicBezTo>
                <a:cubicBezTo>
                  <a:pt x="275" y="34"/>
                  <a:pt x="310" y="32"/>
                  <a:pt x="365" y="79"/>
                </a:cubicBezTo>
                <a:cubicBezTo>
                  <a:pt x="420" y="126"/>
                  <a:pt x="511" y="238"/>
                  <a:pt x="568" y="314"/>
                </a:cubicBezTo>
                <a:cubicBezTo>
                  <a:pt x="625" y="390"/>
                  <a:pt x="657" y="457"/>
                  <a:pt x="706" y="533"/>
                </a:cubicBezTo>
                <a:cubicBezTo>
                  <a:pt x="755" y="609"/>
                  <a:pt x="811" y="707"/>
                  <a:pt x="860" y="769"/>
                </a:cubicBezTo>
                <a:cubicBezTo>
                  <a:pt x="909" y="831"/>
                  <a:pt x="956" y="870"/>
                  <a:pt x="998" y="906"/>
                </a:cubicBezTo>
                <a:cubicBezTo>
                  <a:pt x="1040" y="942"/>
                  <a:pt x="1083" y="973"/>
                  <a:pt x="1111" y="988"/>
                </a:cubicBezTo>
                <a:cubicBezTo>
                  <a:pt x="1139" y="1003"/>
                  <a:pt x="1145" y="999"/>
                  <a:pt x="1168" y="996"/>
                </a:cubicBezTo>
                <a:cubicBezTo>
                  <a:pt x="1191" y="993"/>
                  <a:pt x="1215" y="990"/>
                  <a:pt x="1249" y="971"/>
                </a:cubicBezTo>
                <a:cubicBezTo>
                  <a:pt x="1283" y="952"/>
                  <a:pt x="1328" y="925"/>
                  <a:pt x="1371" y="882"/>
                </a:cubicBezTo>
                <a:cubicBezTo>
                  <a:pt x="1414" y="839"/>
                  <a:pt x="1464" y="776"/>
                  <a:pt x="1509" y="712"/>
                </a:cubicBezTo>
                <a:cubicBezTo>
                  <a:pt x="1554" y="648"/>
                  <a:pt x="1596" y="567"/>
                  <a:pt x="1639" y="501"/>
                </a:cubicBezTo>
                <a:cubicBezTo>
                  <a:pt x="1682" y="435"/>
                  <a:pt x="1727" y="373"/>
                  <a:pt x="1769" y="314"/>
                </a:cubicBezTo>
                <a:cubicBezTo>
                  <a:pt x="1811" y="255"/>
                  <a:pt x="1845" y="193"/>
                  <a:pt x="1890" y="144"/>
                </a:cubicBezTo>
                <a:cubicBezTo>
                  <a:pt x="1935" y="95"/>
                  <a:pt x="1999" y="44"/>
                  <a:pt x="2036" y="22"/>
                </a:cubicBezTo>
                <a:cubicBezTo>
                  <a:pt x="2073" y="0"/>
                  <a:pt x="2073" y="5"/>
                  <a:pt x="2109" y="14"/>
                </a:cubicBezTo>
                <a:cubicBezTo>
                  <a:pt x="2145" y="23"/>
                  <a:pt x="2206" y="40"/>
                  <a:pt x="2255" y="79"/>
                </a:cubicBezTo>
                <a:cubicBezTo>
                  <a:pt x="2304" y="118"/>
                  <a:pt x="2358" y="192"/>
                  <a:pt x="2401" y="249"/>
                </a:cubicBezTo>
                <a:cubicBezTo>
                  <a:pt x="2444" y="306"/>
                  <a:pt x="2484" y="374"/>
                  <a:pt x="2515" y="420"/>
                </a:cubicBezTo>
                <a:cubicBezTo>
                  <a:pt x="2546" y="466"/>
                  <a:pt x="2567" y="495"/>
                  <a:pt x="2588" y="525"/>
                </a:cubicBezTo>
              </a:path>
            </a:pathLst>
          </a:custGeom>
          <a:noFill/>
          <a:ln w="57240">
            <a:solidFill>
              <a:srgbClr val="99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39"/>
          <p:cNvSpPr/>
          <p:nvPr/>
        </p:nvSpPr>
        <p:spPr>
          <a:xfrm>
            <a:off x="7684920" y="2755800"/>
            <a:ext cx="954360" cy="7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40"/>
          <p:cNvSpPr/>
          <p:nvPr/>
        </p:nvSpPr>
        <p:spPr>
          <a:xfrm>
            <a:off x="7983360" y="3200400"/>
            <a:ext cx="954360" cy="7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Object 41"/>
              <p:cNvSpPr txBox="1"/>
              <p:nvPr/>
            </p:nvSpPr>
            <p:spPr>
              <a:xfrm>
                <a:off x="2508120" y="5411880"/>
                <a:ext cx="11210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5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ighchim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1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zapbig0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zipup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zipdn1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jetfly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ass.ibrahim</cp:lastModifiedBy>
  <dcterms:modified xsi:type="dcterms:W3CDTF">2011-10-12T11:04:30Z</dcterms:modified>
  <cp:revision>58</cp:revision>
  <dc:subject/>
  <dc:title>Slide 1</dc:title>
</cp:coreProperties>
</file>